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8936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9612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78936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9612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82240" y="274320"/>
            <a:ext cx="764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78936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9612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78936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9612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2240" y="274320"/>
            <a:ext cx="764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78936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39612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18260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78936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39612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182240" y="274320"/>
            <a:ext cx="764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78936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39612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18260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78936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39612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182240" y="274320"/>
            <a:ext cx="764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82240" y="274320"/>
            <a:ext cx="764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8936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9612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18260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8936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9612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182240" y="274320"/>
            <a:ext cx="764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78936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39612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18260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78936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39612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182240" y="274320"/>
            <a:ext cx="764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78936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39612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18260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78936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39612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182240" y="274320"/>
            <a:ext cx="764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78936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39612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118260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78936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39612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2600"/>
            <a:ext cx="9144000" cy="6870600"/>
            <a:chOff x="0" y="-1260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0" y="-12600"/>
              <a:ext cx="9144000" cy="106668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336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1440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578640"/>
              <a:ext cx="9144000" cy="27936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654960"/>
              <a:ext cx="9144000" cy="759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160200" y="76320"/>
            <a:ext cx="882360" cy="887400"/>
            <a:chOff x="160200" y="76320"/>
            <a:chExt cx="882360" cy="887400"/>
          </a:xfrm>
        </p:grpSpPr>
        <p:sp>
          <p:nvSpPr>
            <p:cNvPr id="11" name=""/>
            <p:cNvSpPr/>
            <p:nvPr/>
          </p:nvSpPr>
          <p:spPr>
            <a:xfrm>
              <a:off x="160200" y="147600"/>
              <a:ext cx="818640" cy="8161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23560" y="76320"/>
              <a:ext cx="819000" cy="815760"/>
            </a:xfrm>
            <a:custGeom>
              <a:avLst/>
              <a:gdLst/>
              <a:ahLst/>
              <a:rect l="l" t="t" r="r" b="b"/>
              <a:pathLst>
                <a:path w="514" h="514">
                  <a:moveTo>
                    <a:pt x="0" y="0"/>
                  </a:moveTo>
                  <a:lnTo>
                    <a:pt x="514" y="0"/>
                  </a:lnTo>
                  <a:lnTo>
                    <a:pt x="514" y="0"/>
                  </a:lnTo>
                  <a:lnTo>
                    <a:pt x="514" y="0"/>
                  </a:lnTo>
                  <a:lnTo>
                    <a:pt x="514" y="514"/>
                  </a:lnTo>
                  <a:lnTo>
                    <a:pt x="514" y="514"/>
                  </a:lnTo>
                  <a:lnTo>
                    <a:pt x="474" y="514"/>
                  </a:lnTo>
                  <a:lnTo>
                    <a:pt x="439" y="512"/>
                  </a:lnTo>
                  <a:lnTo>
                    <a:pt x="408" y="508"/>
                  </a:lnTo>
                  <a:lnTo>
                    <a:pt x="377" y="501"/>
                  </a:lnTo>
                  <a:lnTo>
                    <a:pt x="324" y="488"/>
                  </a:lnTo>
                  <a:lnTo>
                    <a:pt x="275" y="477"/>
                  </a:lnTo>
                  <a:lnTo>
                    <a:pt x="249" y="473"/>
                  </a:lnTo>
                  <a:lnTo>
                    <a:pt x="222" y="468"/>
                  </a:lnTo>
                  <a:lnTo>
                    <a:pt x="194" y="468"/>
                  </a:lnTo>
                  <a:lnTo>
                    <a:pt x="163" y="470"/>
                  </a:lnTo>
                  <a:lnTo>
                    <a:pt x="130" y="477"/>
                  </a:lnTo>
                  <a:lnTo>
                    <a:pt x="90" y="486"/>
                  </a:lnTo>
                  <a:lnTo>
                    <a:pt x="48" y="497"/>
                  </a:lnTo>
                  <a:lnTo>
                    <a:pt x="0" y="514"/>
                  </a:lnTo>
                  <a:lnTo>
                    <a:pt x="0" y="5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" name="Picture 16" descr=""/>
          <p:cNvPicPr/>
          <p:nvPr/>
        </p:nvPicPr>
        <p:blipFill>
          <a:blip r:embed="rId2"/>
          <a:stretch/>
        </p:blipFill>
        <p:spPr>
          <a:xfrm>
            <a:off x="225360" y="228600"/>
            <a:ext cx="78120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e5a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343240"/>
              <a:ext cx="9144000" cy="106668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1920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327024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10" descr=""/>
          <p:cNvPicPr/>
          <p:nvPr/>
        </p:nvPicPr>
        <p:blipFill>
          <a:blip r:embed="rId2"/>
          <a:stretch/>
        </p:blipFill>
        <p:spPr>
          <a:xfrm>
            <a:off x="3429000" y="533520"/>
            <a:ext cx="2266920" cy="1422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1066680" y="4800600"/>
            <a:ext cx="6934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685800" y="2438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58920" y="270180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-12600"/>
            <a:ext cx="9144000" cy="6870600"/>
            <a:chOff x="0" y="-12600"/>
            <a:chExt cx="9144000" cy="6870600"/>
          </a:xfrm>
        </p:grpSpPr>
        <p:sp>
          <p:nvSpPr>
            <p:cNvPr id="100" name=""/>
            <p:cNvSpPr/>
            <p:nvPr/>
          </p:nvSpPr>
          <p:spPr>
            <a:xfrm>
              <a:off x="0" y="-12600"/>
              <a:ext cx="9144000" cy="106668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6336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91440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6578640"/>
              <a:ext cx="9144000" cy="27936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6654960"/>
              <a:ext cx="9144000" cy="759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60200" y="76320"/>
            <a:ext cx="882360" cy="887400"/>
            <a:chOff x="160200" y="76320"/>
            <a:chExt cx="882360" cy="887400"/>
          </a:xfrm>
        </p:grpSpPr>
        <p:sp>
          <p:nvSpPr>
            <p:cNvPr id="110" name=""/>
            <p:cNvSpPr/>
            <p:nvPr/>
          </p:nvSpPr>
          <p:spPr>
            <a:xfrm>
              <a:off x="160200" y="147600"/>
              <a:ext cx="818640" cy="8161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3560" y="76320"/>
              <a:ext cx="819000" cy="815760"/>
            </a:xfrm>
            <a:custGeom>
              <a:avLst/>
              <a:gdLst/>
              <a:ahLst/>
              <a:rect l="l" t="t" r="r" b="b"/>
              <a:pathLst>
                <a:path w="514" h="514">
                  <a:moveTo>
                    <a:pt x="0" y="0"/>
                  </a:moveTo>
                  <a:lnTo>
                    <a:pt x="514" y="0"/>
                  </a:lnTo>
                  <a:lnTo>
                    <a:pt x="514" y="0"/>
                  </a:lnTo>
                  <a:lnTo>
                    <a:pt x="514" y="0"/>
                  </a:lnTo>
                  <a:lnTo>
                    <a:pt x="514" y="514"/>
                  </a:lnTo>
                  <a:lnTo>
                    <a:pt x="514" y="514"/>
                  </a:lnTo>
                  <a:lnTo>
                    <a:pt x="474" y="514"/>
                  </a:lnTo>
                  <a:lnTo>
                    <a:pt x="439" y="512"/>
                  </a:lnTo>
                  <a:lnTo>
                    <a:pt x="408" y="508"/>
                  </a:lnTo>
                  <a:lnTo>
                    <a:pt x="377" y="501"/>
                  </a:lnTo>
                  <a:lnTo>
                    <a:pt x="324" y="488"/>
                  </a:lnTo>
                  <a:lnTo>
                    <a:pt x="275" y="477"/>
                  </a:lnTo>
                  <a:lnTo>
                    <a:pt x="249" y="473"/>
                  </a:lnTo>
                  <a:lnTo>
                    <a:pt x="222" y="468"/>
                  </a:lnTo>
                  <a:lnTo>
                    <a:pt x="194" y="468"/>
                  </a:lnTo>
                  <a:lnTo>
                    <a:pt x="163" y="470"/>
                  </a:lnTo>
                  <a:lnTo>
                    <a:pt x="130" y="477"/>
                  </a:lnTo>
                  <a:lnTo>
                    <a:pt x="90" y="486"/>
                  </a:lnTo>
                  <a:lnTo>
                    <a:pt x="48" y="497"/>
                  </a:lnTo>
                  <a:lnTo>
                    <a:pt x="0" y="514"/>
                  </a:lnTo>
                  <a:lnTo>
                    <a:pt x="0" y="5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e5a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2343240"/>
              <a:ext cx="9144000" cy="106668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241920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327024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3"/>
          <p:cNvSpPr/>
          <p:nvPr/>
        </p:nvSpPr>
        <p:spPr>
          <a:xfrm>
            <a:off x="1066680" y="4800600"/>
            <a:ext cx="6934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685800" y="2438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58920" y="270180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0" y="-12600"/>
            <a:ext cx="9144000" cy="6870600"/>
            <a:chOff x="0" y="-12600"/>
            <a:chExt cx="9144000" cy="6870600"/>
          </a:xfrm>
        </p:grpSpPr>
        <p:sp>
          <p:nvSpPr>
            <p:cNvPr id="197" name=""/>
            <p:cNvSpPr/>
            <p:nvPr/>
          </p:nvSpPr>
          <p:spPr>
            <a:xfrm>
              <a:off x="0" y="-12600"/>
              <a:ext cx="9144000" cy="106668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6336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91440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6578640"/>
              <a:ext cx="9144000" cy="27936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6654960"/>
              <a:ext cx="9144000" cy="759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60200" y="76320"/>
            <a:ext cx="882360" cy="887400"/>
            <a:chOff x="160200" y="76320"/>
            <a:chExt cx="882360" cy="887400"/>
          </a:xfrm>
        </p:grpSpPr>
        <p:sp>
          <p:nvSpPr>
            <p:cNvPr id="207" name=""/>
            <p:cNvSpPr/>
            <p:nvPr/>
          </p:nvSpPr>
          <p:spPr>
            <a:xfrm>
              <a:off x="160200" y="147600"/>
              <a:ext cx="818640" cy="8161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3560" y="76320"/>
              <a:ext cx="819000" cy="815760"/>
            </a:xfrm>
            <a:custGeom>
              <a:avLst/>
              <a:gdLst/>
              <a:ahLst/>
              <a:rect l="l" t="t" r="r" b="b"/>
              <a:pathLst>
                <a:path w="514" h="514">
                  <a:moveTo>
                    <a:pt x="0" y="0"/>
                  </a:moveTo>
                  <a:lnTo>
                    <a:pt x="514" y="0"/>
                  </a:lnTo>
                  <a:lnTo>
                    <a:pt x="514" y="0"/>
                  </a:lnTo>
                  <a:lnTo>
                    <a:pt x="514" y="0"/>
                  </a:lnTo>
                  <a:lnTo>
                    <a:pt x="514" y="514"/>
                  </a:lnTo>
                  <a:lnTo>
                    <a:pt x="514" y="514"/>
                  </a:lnTo>
                  <a:lnTo>
                    <a:pt x="474" y="514"/>
                  </a:lnTo>
                  <a:lnTo>
                    <a:pt x="439" y="512"/>
                  </a:lnTo>
                  <a:lnTo>
                    <a:pt x="408" y="508"/>
                  </a:lnTo>
                  <a:lnTo>
                    <a:pt x="377" y="501"/>
                  </a:lnTo>
                  <a:lnTo>
                    <a:pt x="324" y="488"/>
                  </a:lnTo>
                  <a:lnTo>
                    <a:pt x="275" y="477"/>
                  </a:lnTo>
                  <a:lnTo>
                    <a:pt x="249" y="473"/>
                  </a:lnTo>
                  <a:lnTo>
                    <a:pt x="222" y="468"/>
                  </a:lnTo>
                  <a:lnTo>
                    <a:pt x="194" y="468"/>
                  </a:lnTo>
                  <a:lnTo>
                    <a:pt x="163" y="470"/>
                  </a:lnTo>
                  <a:lnTo>
                    <a:pt x="130" y="477"/>
                  </a:lnTo>
                  <a:lnTo>
                    <a:pt x="90" y="486"/>
                  </a:lnTo>
                  <a:lnTo>
                    <a:pt x="48" y="497"/>
                  </a:lnTo>
                  <a:lnTo>
                    <a:pt x="0" y="514"/>
                  </a:lnTo>
                  <a:lnTo>
                    <a:pt x="0" y="5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Picture 16" descr=""/>
          <p:cNvPicPr/>
          <p:nvPr/>
        </p:nvPicPr>
        <p:blipFill>
          <a:blip r:embed="rId2"/>
          <a:stretch/>
        </p:blipFill>
        <p:spPr>
          <a:xfrm>
            <a:off x="225360" y="228600"/>
            <a:ext cx="78120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0" y="2343240"/>
              <a:ext cx="9144000" cy="106668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0" y="241920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0" y="327024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3" name="Picture 10" descr=""/>
          <p:cNvPicPr/>
          <p:nvPr/>
        </p:nvPicPr>
        <p:blipFill>
          <a:blip r:embed="rId2"/>
          <a:stretch/>
        </p:blipFill>
        <p:spPr>
          <a:xfrm>
            <a:off x="3429000" y="533520"/>
            <a:ext cx="2266920" cy="14223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3"/>
          <p:cNvSpPr/>
          <p:nvPr/>
        </p:nvSpPr>
        <p:spPr>
          <a:xfrm>
            <a:off x="1066680" y="4800600"/>
            <a:ext cx="6934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685800" y="2438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58920" y="270180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0" y="-12600"/>
            <a:ext cx="9144000" cy="6870600"/>
            <a:chOff x="0" y="-12600"/>
            <a:chExt cx="9144000" cy="6870600"/>
          </a:xfrm>
        </p:grpSpPr>
        <p:sp>
          <p:nvSpPr>
            <p:cNvPr id="294" name=""/>
            <p:cNvSpPr/>
            <p:nvPr/>
          </p:nvSpPr>
          <p:spPr>
            <a:xfrm>
              <a:off x="0" y="-12600"/>
              <a:ext cx="9144000" cy="106668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6336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91440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6578640"/>
              <a:ext cx="9144000" cy="27936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0" y="6654960"/>
              <a:ext cx="9144000" cy="759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60200" y="76320"/>
            <a:ext cx="882360" cy="887400"/>
            <a:chOff x="160200" y="76320"/>
            <a:chExt cx="882360" cy="887400"/>
          </a:xfrm>
        </p:grpSpPr>
        <p:sp>
          <p:nvSpPr>
            <p:cNvPr id="304" name=""/>
            <p:cNvSpPr/>
            <p:nvPr/>
          </p:nvSpPr>
          <p:spPr>
            <a:xfrm>
              <a:off x="160200" y="147600"/>
              <a:ext cx="818640" cy="8161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3560" y="76320"/>
              <a:ext cx="819000" cy="815760"/>
            </a:xfrm>
            <a:custGeom>
              <a:avLst/>
              <a:gdLst/>
              <a:ahLst/>
              <a:rect l="l" t="t" r="r" b="b"/>
              <a:pathLst>
                <a:path w="514" h="514">
                  <a:moveTo>
                    <a:pt x="0" y="0"/>
                  </a:moveTo>
                  <a:lnTo>
                    <a:pt x="514" y="0"/>
                  </a:lnTo>
                  <a:lnTo>
                    <a:pt x="514" y="0"/>
                  </a:lnTo>
                  <a:lnTo>
                    <a:pt x="514" y="0"/>
                  </a:lnTo>
                  <a:lnTo>
                    <a:pt x="514" y="514"/>
                  </a:lnTo>
                  <a:lnTo>
                    <a:pt x="514" y="514"/>
                  </a:lnTo>
                  <a:lnTo>
                    <a:pt x="474" y="514"/>
                  </a:lnTo>
                  <a:lnTo>
                    <a:pt x="439" y="512"/>
                  </a:lnTo>
                  <a:lnTo>
                    <a:pt x="408" y="508"/>
                  </a:lnTo>
                  <a:lnTo>
                    <a:pt x="377" y="501"/>
                  </a:lnTo>
                  <a:lnTo>
                    <a:pt x="324" y="488"/>
                  </a:lnTo>
                  <a:lnTo>
                    <a:pt x="275" y="477"/>
                  </a:lnTo>
                  <a:lnTo>
                    <a:pt x="249" y="473"/>
                  </a:lnTo>
                  <a:lnTo>
                    <a:pt x="222" y="468"/>
                  </a:lnTo>
                  <a:lnTo>
                    <a:pt x="194" y="468"/>
                  </a:lnTo>
                  <a:lnTo>
                    <a:pt x="163" y="470"/>
                  </a:lnTo>
                  <a:lnTo>
                    <a:pt x="130" y="477"/>
                  </a:lnTo>
                  <a:lnTo>
                    <a:pt x="90" y="486"/>
                  </a:lnTo>
                  <a:lnTo>
                    <a:pt x="48" y="497"/>
                  </a:lnTo>
                  <a:lnTo>
                    <a:pt x="0" y="514"/>
                  </a:lnTo>
                  <a:lnTo>
                    <a:pt x="0" y="5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0" y="2343240"/>
              <a:ext cx="9144000" cy="106668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0" y="241920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0" y="327024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Rectangle 3"/>
          <p:cNvSpPr/>
          <p:nvPr/>
        </p:nvSpPr>
        <p:spPr>
          <a:xfrm>
            <a:off x="1066680" y="4800600"/>
            <a:ext cx="6934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685800" y="2438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58920" y="270180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Référentiel de gouvernance : une démarche de progrès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ournée du 20 novembre 20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900000" y="5229360"/>
            <a:ext cx="74883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se en situation du référentiel : jeu de rô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1428840" y="6087960"/>
            <a:ext cx="6400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Avec le soutien du crédit coopéra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6659640" y="5950080"/>
            <a:ext cx="806400" cy="55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us sommes le 20 novembre 20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Ordre du jour du CA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Fonctionnement de l’Ap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Coordination école / collèg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Travaux de sécurité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Verdana"/>
              </a:rPr>
              <a:t>Schéma directeur immobilier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Contrôle intern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Mode de fonctionnement OGEC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Mise en place des délégation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Statuts et charte du présid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us sommes le 20 novembre 20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7986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Point 4 : Schéma directeur immobilier ou plan pluriannuel d’investissement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Un travail collectif chefs d’établissement/OGEC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Une collecte exhaustive des besoins pour l’ensemble scolair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Une priorisation des besoin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Un plan à moyen term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us sommes le 20 novembre 20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"/>
          <p:cNvSpPr/>
          <p:nvPr/>
        </p:nvSpPr>
        <p:spPr>
          <a:xfrm>
            <a:off x="3564000" y="1628640"/>
            <a:ext cx="1800000" cy="1584360"/>
          </a:xfrm>
          <a:prstGeom prst="flowChartExtract">
            <a:avLst/>
          </a:prstGeom>
          <a:solidFill>
            <a:srgbClr val="ffffff">
              <a:alpha val="60000"/>
            </a:srgbClr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995640" y="2565360"/>
            <a:ext cx="1008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5aa0"/>
                </a:solidFill>
                <a:latin typeface="Verdana"/>
              </a:rPr>
              <a:t>PRO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24360" y="126828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e5aa0"/>
                </a:solidFill>
                <a:latin typeface="Verdana"/>
              </a:rPr>
              <a:t>Tu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24000" y="4292640"/>
            <a:ext cx="849600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Plan pluriannuel d’investiss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15360" indent="0" algn="ctr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(5 ans)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marL="315360" indent="-315360">
              <a:lnSpc>
                <a:spcPct val="75000"/>
              </a:lnSpc>
              <a:spcBef>
                <a:spcPts val="1125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rogrammation des besoins en travaux et équipements par ordre de priorité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15360" indent="-315360">
              <a:lnSpc>
                <a:spcPct val="75000"/>
              </a:lnSpc>
              <a:spcBef>
                <a:spcPts val="1125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ecouvre des investissements courants 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(mobilier, agencements intérieurs…)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et des investissements lourds 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(modification des locaux, réalisation d’une nouvelle salle…)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15360" indent="0" algn="ctr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Immobilisations de renouvellement / immobilisations de développement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0" name=""/>
          <p:cNvSpPr/>
          <p:nvPr/>
        </p:nvSpPr>
        <p:spPr>
          <a:xfrm>
            <a:off x="5292720" y="3141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e5aa0"/>
                </a:solidFill>
                <a:latin typeface="Verdana"/>
              </a:rPr>
              <a:t>OG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835280" y="3068640"/>
            <a:ext cx="201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e5aa0"/>
                </a:solidFill>
                <a:latin typeface="Verdana"/>
              </a:rPr>
              <a:t>Chef d’établiss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284720" y="3429000"/>
            <a:ext cx="504720" cy="720720"/>
          </a:xfrm>
          <a:prstGeom prst="downArrow">
            <a:avLst>
              <a:gd name="adj1" fmla="val 50000"/>
              <a:gd name="adj2" fmla="val 35699"/>
            </a:avLst>
          </a:prstGeom>
          <a:solidFill>
            <a:srgbClr val="ffffff">
              <a:alpha val="60000"/>
            </a:srgbClr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us sommes le 20 novembre 20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79280" y="2205000"/>
          <a:ext cx="8785440" cy="3584520"/>
        </p:xfrm>
        <a:graphic>
          <a:graphicData uri="http://schemas.openxmlformats.org/drawingml/2006/table">
            <a:tbl>
              <a:tblPr/>
              <a:tblGrid>
                <a:gridCol w="3888000"/>
                <a:gridCol w="720720"/>
                <a:gridCol w="936360"/>
                <a:gridCol w="792360"/>
                <a:gridCol w="863640"/>
                <a:gridCol w="826920"/>
                <a:gridCol w="75744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N-1</a:t>
                      </a:r>
                      <a:br>
                        <a:rPr sz="1800"/>
                      </a:b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ré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N</a:t>
                      </a:r>
                      <a:br>
                        <a:rPr sz="1800"/>
                      </a:b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en co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N+1</a:t>
                      </a:r>
                      <a:br>
                        <a:rPr sz="1800"/>
                      </a:b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prév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N+2</a:t>
                      </a:r>
                      <a:br>
                        <a:rPr sz="1800"/>
                      </a:b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prév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N+3</a:t>
                      </a:r>
                      <a:br>
                        <a:rPr sz="1800"/>
                      </a:b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prév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N+4</a:t>
                      </a:r>
                      <a:br>
                        <a:rPr sz="1800"/>
                      </a:b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prév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Immobilisations incorpor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Immobilisations corpor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Constructions, installations-agencements, aménag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Equip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Immobilisations en c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5" name=""/>
          <p:cNvSpPr/>
          <p:nvPr/>
        </p:nvSpPr>
        <p:spPr>
          <a:xfrm>
            <a:off x="900000" y="1484280"/>
            <a:ext cx="75596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chéma simplifié du plan pluriannuel d’investis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us sommes le 20 novembre 20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Ordre du jour du CA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Fonctionnement de l’Ap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Coordination école / collèg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Travaux de sécurité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Schéma directeur immobilier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Verdana"/>
              </a:rPr>
              <a:t>Contrôle intern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Mode de fonctionnement OGEC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Mise en place des délégation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Statuts et charte du présid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us sommes le 20 novembre 20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7986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Point 5 : Contrôle intern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Objectif : minimiser les risques, et protéger au mieux le patrimoine de l’OGEC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Un principe essentiel : séparation des fonctions de l’ORDONNATEUR, du PAYEUR et du COMPTABLE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547640" y="3789360"/>
            <a:ext cx="2448000" cy="1152360"/>
          </a:xfrm>
          <a:prstGeom prst="ellipse">
            <a:avLst/>
          </a:prstGeom>
          <a:solidFill>
            <a:srgbClr val="1e5aa0">
              <a:alpha val="60000"/>
            </a:srgbClr>
          </a:solidFill>
          <a:ln w="25560">
            <a:solidFill>
              <a:srgbClr val="1e5a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o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e déc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u d’autor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508720" y="4221000"/>
            <a:ext cx="2376360" cy="1008360"/>
          </a:xfrm>
          <a:prstGeom prst="ellipse">
            <a:avLst/>
          </a:prstGeom>
          <a:solidFill>
            <a:srgbClr val="1e5aa0">
              <a:alpha val="60000"/>
            </a:srgbClr>
          </a:solidFill>
          <a:ln w="25560">
            <a:solidFill>
              <a:srgbClr val="1e5a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o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’ordonnan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435640" y="5589720"/>
            <a:ext cx="2232000" cy="900000"/>
          </a:xfrm>
          <a:prstGeom prst="ellipse">
            <a:avLst/>
          </a:prstGeom>
          <a:solidFill>
            <a:srgbClr val="1e5aa0">
              <a:alpha val="60000"/>
            </a:srgbClr>
          </a:solidFill>
          <a:ln w="25560">
            <a:solidFill>
              <a:srgbClr val="1e5a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o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inanci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47640" y="5300640"/>
            <a:ext cx="2376720" cy="900000"/>
          </a:xfrm>
          <a:prstGeom prst="ellipse">
            <a:avLst/>
          </a:prstGeom>
          <a:solidFill>
            <a:srgbClr val="1e5aa0">
              <a:alpha val="60000"/>
            </a:srgbClr>
          </a:solidFill>
          <a:ln w="25560">
            <a:solidFill>
              <a:srgbClr val="1e5a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o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’enregist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067280" y="4292640"/>
            <a:ext cx="1369800" cy="146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995640" y="5877000"/>
            <a:ext cx="1368360" cy="217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3851280" y="4869000"/>
            <a:ext cx="151272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us sommes le 20 novembre 20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Ordre du jour du CA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Fonctionnement de l’Ap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Coordination école / collèg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Travaux de sécurité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Schéma directeur immobilier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Contrôle intern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Verdana"/>
              </a:rPr>
              <a:t>Mode de fonctionnement OGEC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Mise en place des délégation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Statuts et charte du présid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us sommes le 20 novembre 20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7417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Point 6 : Mode de fonctionnement de l’OGEC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planning d’année formalisé et arrêté d’un commun accord: un outil de travail indispensabl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ctr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Grandes étapes du planning d’anné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ctr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11280" y="3213000"/>
          <a:ext cx="7993080" cy="2946600"/>
        </p:xfrm>
        <a:graphic>
          <a:graphicData uri="http://schemas.openxmlformats.org/drawingml/2006/table">
            <a:tbl>
              <a:tblPr/>
              <a:tblGrid>
                <a:gridCol w="2492280"/>
                <a:gridCol w="838080"/>
                <a:gridCol w="46627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Juin/juillet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Arrêté des budgets de fonctionnement et d’investissement 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Sept/oct 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Arrêté des budgets d’exécution 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Oct/nov 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Arrêté des comptes clos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Nov/déc/janv 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Approbation des comptes clos N,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des budgets N+1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et du plan d’investissement à 5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Mars/avril 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Contrôle budgé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us sommes le 20 novembre 20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Ordre du jour du CA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Fonctionnement de l’Ap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Coordination école / collèg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Travaux de sécurité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Schéma directeur immobilier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Contrôle intern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Mode de fonctionnement OGEC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Verdana"/>
              </a:rPr>
              <a:t>Mise en place des délégation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Statuts et charte du présid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us sommes le 20 novembre 20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80578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Point 7 : Mise en place des délégation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Prévue par le statut de l’Enseignement catholique et décrite dans les statuts des chefs d’établiss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Une délégation est écrite et annuell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Deux grands types de déléga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utorité  sur les personnels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xécution du budge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ous sommes le 20 novembre 2009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seil d’admini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us sommes le 20 novembre 20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Ordre du jour du CA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Fonctionnement de l’Ap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Coordination école / collèg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Travaux de sécurité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Schéma directeur immobilier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Contrôle intern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Mode de fonctionnement OGEC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Mise en place des délégation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Verdana"/>
              </a:rPr>
              <a:t>Statuts et charte du présid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us sommes le 20 novembre 20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913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Point 8 : Statuts OGEC et charte du présid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Respecter les statuts types et signer la charte du présid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adre indispensable pour une vie associative réussi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président d’OGEC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nim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mmuniqu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end compt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ait s’entourer et recruter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répare sa success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80000"/>
              </a:lnSpc>
              <a:spcBef>
                <a:spcPts val="3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000066"/>
                </a:solidFill>
                <a:latin typeface="Verdana"/>
              </a:rPr>
              <a:t>(CNEC-07/2006, charte du président d’OGEC)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80000"/>
              </a:lnSpc>
              <a:spcBef>
                <a:spcPts val="349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6300720" y="3141720"/>
            <a:ext cx="2241720" cy="317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us sommes le 20 novembre 20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55640" y="1196640"/>
            <a:ext cx="80582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s principaux éléments d’une bonne gouvernance sont en pla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nctionnement du trépied institutionn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andem chef d’établissement / président d’OGEC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OGEC partie intégrante de la communauté éducativ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Existence d’outils de gestion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Plan pluriannuel d’investissement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Budget prévisionnel de fonctionnement, d’investissement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Lien avec les outils Indices, tableaux de bord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Contrôle interne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ous sommes le 15 mars 2008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te rendu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u rapport de tutel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us sommes le 15 mars 2008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9280" y="1295280"/>
            <a:ext cx="82803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Verdana"/>
              </a:rPr>
              <a:t>Rapport de tutell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Verdana"/>
              </a:rPr>
              <a:t>Perte d’effectif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Verdana"/>
              </a:rPr>
              <a:t>Absence de contrôle budgétair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Verdana"/>
              </a:rPr>
              <a:t>Dysfonctionnements financier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Verdana"/>
              </a:rPr>
              <a:t>Absence de suivi des travaux de sécurité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Verdana"/>
              </a:rPr>
              <a:t>Difficultés de coordination de l’ensemble scolair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Verdana"/>
              </a:rPr>
              <a:t>Dialogue chefs d’établissement / président d’OGEC non satisfaisa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Verdana"/>
              </a:rPr>
              <a:t>Non-conformité des statuts et non signature de la charte du présid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Verdana"/>
              </a:rPr>
              <a:t>CA d’OGEC moribond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ous sommes le 15 juin 2008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ésentation du plan d’a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us sommes le 15 juin 2008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42920" y="148392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Verdana"/>
              </a:rPr>
              <a:t>Plan d’action mis en place suite à la visite de tutelle et réalisé à partir des préconisations issues du référentiel de gouvernance des OGEC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Verdana"/>
              </a:rPr>
              <a:t>Plan d’action en 5 point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Verdana"/>
              </a:rPr>
              <a:t>Participation à la refondation du projet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Verdana"/>
              </a:rPr>
              <a:t>Réorganisation de l’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Verdana"/>
              </a:rPr>
              <a:t>Gestion des richesses humaines élues et bénévol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Verdana"/>
              </a:rPr>
              <a:t>Gestion financièr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Verdana"/>
              </a:rPr>
              <a:t>Communication et transparenc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us sommes le 15 juin 2008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2803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MISSIONS ET OBJECTIF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5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3300"/>
                </a:solidFill>
                <a:latin typeface="Verdana"/>
              </a:rPr>
              <a:t>(Axe 1 du référentiel de gouvernance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Constats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Verdana"/>
              </a:rPr>
              <a:t>Absence de projet d’ensemble écrit et vécu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Risques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Verdana"/>
              </a:rPr>
              <a:t>Baisse attractivité, chute effectifs, fermetur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Objectif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Verdana"/>
              </a:rPr>
              <a:t>Participer avec les autres membres de la communauté éducative à la rédaction d’un véritable projet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Moyens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Verdana"/>
              </a:rPr>
              <a:t>Accompagnateur extérieur et participation à groupe de travai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Calendrier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Verdana"/>
              </a:rPr>
              <a:t>1 a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5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4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4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us sommes le 15 juin 2008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2803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ORGANISATION ET FONCTIONNEMENT </a:t>
            </a:r>
            <a:br>
              <a:rPr sz="1800"/>
            </a:br>
            <a:r>
              <a:rPr b="1" i="1" lang="en-US" sz="1600" spc="-1" strike="noStrike">
                <a:solidFill>
                  <a:srgbClr val="993300"/>
                </a:solidFill>
                <a:latin typeface="Verdana"/>
              </a:rPr>
              <a:t>(Axe 2 du référentiel de gouvernance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Constats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Verdana"/>
              </a:rPr>
              <a:t>Confusion des rôles, méconnaissance des règles de fonctionnement, délégations non formalisées…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Risques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Verdana"/>
              </a:rPr>
              <a:t>Absence de maîtrise de la ges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Objectif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Verdana"/>
              </a:rPr>
              <a:t>Respect de la place de chacun et bonne articula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Moyens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Verdana"/>
              </a:rPr>
              <a:t>Relecture des textes fondateurs de l’Enseignement catholique, agenda d’année, délégations écrites, commissions de travail…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Calendrier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Verdana"/>
              </a:rPr>
              <a:t>6 moi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4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us sommes le 15 juin 2008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2803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GESTION RICHESSES HUMAINES (élus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5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3300"/>
                </a:solidFill>
                <a:latin typeface="Verdana"/>
              </a:rPr>
              <a:t>(Axe 3 du référentiel de gouvernance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Constats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Verdana"/>
              </a:rPr>
              <a:t>Non renouvellement CA, défaut de formation…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Risques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Verdana"/>
              </a:rPr>
              <a:t>Appauvrissement de l’OGEC, déséquilibre dans le binôme OGEC / chef d’établissement, non respect loi 1901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Objectif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Verdana"/>
              </a:rPr>
              <a:t>Réorganiser la vie associativ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Moyens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Verdana"/>
              </a:rPr>
              <a:t>Renforcement de l’équipe OGEC et plan de forma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Calendrier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Verdana"/>
              </a:rPr>
              <a:t>1 a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500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us sommes le 20 novembre 20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Ordre du jour du CA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Fonctionnement de l’Ap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Coordination école / collèg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Travaux de sécurité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Schéma directeur immobilier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Contrôle intern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Mode de fonctionnement OGEC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Mise en place des délégation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Statuts et charte du présid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us sommes le 15 juin 2008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2803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3300"/>
                </a:solidFill>
                <a:latin typeface="Verdana"/>
              </a:rPr>
              <a:t>GESTION FINANCIER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5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3300"/>
                </a:solidFill>
                <a:latin typeface="Verdana"/>
              </a:rPr>
              <a:t>(Axe 4 du référentiel de gouvernance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3300"/>
                </a:solidFill>
                <a:latin typeface="Verdana"/>
              </a:rPr>
              <a:t>Constats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3300"/>
                </a:solidFill>
                <a:latin typeface="Verdana"/>
              </a:rPr>
              <a:t>Absence de plan d’investissement et de plan de financement, de budget de fonctionnement, de contrôle budgétaire…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3300"/>
                </a:solidFill>
                <a:latin typeface="Verdana"/>
              </a:rPr>
              <a:t>Risques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3300"/>
                </a:solidFill>
                <a:latin typeface="Verdana"/>
              </a:rPr>
              <a:t>Déséquilibre financier, dévoiement de la ressource…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3300"/>
                </a:solidFill>
                <a:latin typeface="Verdana"/>
              </a:rPr>
              <a:t>Objectif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3300"/>
                </a:solidFill>
                <a:latin typeface="Verdana"/>
              </a:rPr>
              <a:t>Mettre en place un process de gestion fiabl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3300"/>
                </a:solidFill>
                <a:latin typeface="Verdana"/>
              </a:rPr>
              <a:t>Moyens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3300"/>
                </a:solidFill>
                <a:latin typeface="Verdana"/>
              </a:rPr>
              <a:t>Outils FNOGEC et observatoire économique, suivi de ges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3300"/>
                </a:solidFill>
                <a:latin typeface="Verdana"/>
              </a:rPr>
              <a:t>Calendrier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3300"/>
                </a:solidFill>
                <a:latin typeface="Verdana"/>
              </a:rPr>
              <a:t>Immédia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4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us sommes le 15 juin 2008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80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COMMUNICATION ET TRANSPARENC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0" algn="ctr">
              <a:lnSpc>
                <a:spcPct val="5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3300"/>
                </a:solidFill>
                <a:latin typeface="Verdana"/>
              </a:rPr>
              <a:t>(Axe 5 du référentiel de gouvernance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Constats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Verdana"/>
              </a:rPr>
              <a:t>Pas de déclaration financière au TPG, présentation partielle des comptes au CA, non respect de la loi NRE…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Risques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Verdana"/>
              </a:rPr>
              <a:t>Perte du contrat, rupture des relations avec les collectivités publiqu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Objectif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Verdana"/>
              </a:rPr>
              <a:t>Communiquer les informations obligatoires, participer à l’observatoire économique, gérer les conflits d’intérêt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Moyens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Verdana"/>
              </a:rPr>
              <a:t>Planning d’année, transmission des données comptables et extracomptables à indic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Calendrier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99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Verdana"/>
              </a:rPr>
              <a:t>Immédia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500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500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4" dur="500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us sommes le 15 juin 2008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250920" y="1268280"/>
          <a:ext cx="8713800" cy="4999320"/>
        </p:xfrm>
        <a:graphic>
          <a:graphicData uri="http://schemas.openxmlformats.org/drawingml/2006/table">
            <a:tbl>
              <a:tblPr/>
              <a:tblGrid>
                <a:gridCol w="3673440"/>
                <a:gridCol w="5040360"/>
              </a:tblGrid>
              <a:tr h="62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SIGNAUX D’ALE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MOYENS D’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Baisse eff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Travail sur le projet d’ensemble scolaire dans le cadre du conseil d’établiss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Absence de contrôle budgét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Procédures de contrôle inte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Respect d’un agenda annuel de la g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Déséquilibres financi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Analyse financiè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Plan de restruct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Pas de suivi des travau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Plan pluriannuel d’investiss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Difficultés de coordin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Protocole de coordin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Accompagnement de la tute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Mauvais fonctionn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du tandem OGEC/chef d’étb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Mise en place de règles de fonctionnement en commun et de délégations clai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Statuts non-conformes et charte du président non sign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Retour à une vie associative conforme aux règles institutionnel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ous sommes le 20 novembre 2009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tour au conseil d’admini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us sommes le 20 novembre 20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Un plan d’action lancé et en cours de réalisatio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Un plan d’action élaboré en prenant appui sur le référentiel de bonne gouvernance des OGEC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00"/>
                            </p:stCondLst>
                            <p:childTnLst>
                              <p:par>
                                <p:cTn id="9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5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us sommes le 20 novembre 20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Mission et objectif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ntribution de l’OGEC à la refondation du proje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Fonctionnement et organisation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Organigramme de l’équipe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Gestion richesses humaine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alendrier de réunions et formation des élu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Gestion financièr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lan d’investissement et budget annu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Communication et transpa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éclaration sectorielle, rapport de gestion, rapport sur les conventions réglementées, bulletin de liaison OGEC, transmission des informations à Indic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0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500"/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us sommes le 20 novembre 20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26560" y="1483920"/>
            <a:ext cx="7993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Un autre axe reste à travailler et à intégrer dans le plan d’action :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responsabilité sociétale et développement durabl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ppartenance au réseau des établissements du secteur (optimisation de coûts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harte économique commune sur les relations financières et contractuelles avec les famill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onds de soutien à l’invest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0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us sommes le 20 novembre 20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8280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inq fondamentaux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rocédures écri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espect des règles statutair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éparation des fonction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espect des personnes et des rôles de chacu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rise en compte des réalités du terrai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Un outil à disposition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éférentiel de gouvernanc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Une équipe de projet, une œuvre collectiv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2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us sommes le 20 novembre 20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Ordre du jour du CA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Verdana"/>
              </a:rPr>
              <a:t>Fonctionnement de l’Ap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Coordination école / collèg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Travaux de sécurité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Schéma directeur immobilier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Contrôle intern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Mode de fonctionnement OGEC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Mise en place des délégation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Statuts et charte du présid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us sommes le 20 novembre 20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77086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4288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Verdana"/>
              </a:rPr>
              <a:t>Point 1 : Fonctionnement de l’Ap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5428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lvl="1" marL="542880" indent="-36360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Le président de l’APEL ou son représentant est membre de droit du CA de l’OGEC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542880" indent="-36360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L’APEL participe à l’animation culturelle et pastorale de l’ensemble scolair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542880" indent="-36360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L’APEL est membre du conseil d’établiss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us sommes le 20 novembre 20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Ordre du jour du CA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Fonctionnement de l’Ap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Verdana"/>
              </a:rPr>
              <a:t>Coordination école / collèg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Travaux de sécurité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Schéma directeur immobilier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Contrôle intern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Mode de fonctionnement OGEC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Mise en place des délégation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Statuts et charte du présid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us sommes le 20 novembre 20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77086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Point 2 : Coordination école / collèg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442800" indent="-35712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Deux établissements, une école et un collège qui constituent un ensemble scolaire :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1050840" indent="-336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Un projet d’ ensemble scolair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1050840" indent="-336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Deux chefs d’établissement, dont l’un est coordinateur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1050840" indent="-336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Un besoin de dialogue et de travail en commu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44280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us sommes le 20 novembre 20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Ordre du jour du CA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Fonctionnement de l’Ap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Coordination école / collèg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Verdana"/>
              </a:rPr>
              <a:t>Travaux de sécurité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Schéma directeur immobilier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Contrôle intern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Mode de fonctionnement OGEC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Mise en place des délégation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Statuts et charte du présid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us sommes le 20 novembre 20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Point 3 : Travaux de sécurité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Des impératifs de conformité des locaux scolaire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2068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Risque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2068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Obligation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2068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oût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Mises aux normes d’hygiène et de sécurité: obligation et investissements obligatoires, à programmer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8:49:49Z</dcterms:created>
  <dc:creator>jmlelievre</dc:creator>
  <dc:description/>
  <dc:language>en-US</dc:language>
  <cp:lastModifiedBy>aregnault</cp:lastModifiedBy>
  <dcterms:modified xsi:type="dcterms:W3CDTF">2009-11-18T14:22:23Z</dcterms:modified>
  <cp:revision>44</cp:revision>
  <dc:subject/>
  <dc:title>Journée des permanents des URO/UDOGEC</dc:title>
</cp:coreProperties>
</file>