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C824A-AF06-453C-BC2B-49BA3657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5294C-B758-44A0-92CB-FBA31479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C00B1-D5FA-443C-878B-A3FD948D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500AC-704C-4854-832D-AF6F050C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EFB36-CB4A-4FF2-9661-F213F9C5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8E766-A0C2-44DD-B6A4-6B8F821C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EDE90-911F-4370-BC1E-EEDE479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95117-CF95-4375-AD2E-F6C671A4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FD208-E11E-40B7-908A-B8B9F6E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3717B4-D867-41C7-B940-3AE30FAE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95291-2215-4EA0-9DCA-EEFD9251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D24A3-C545-40A9-B17C-60C41ACB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1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3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e5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266920" cy="1422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00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06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7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6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-08-05 prérentrée des CE © DDEC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E582-21A5-4BD6-A6E8-14EE1AB8A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Référentiel de gouvernance : une démarche de progrè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urnée du 20 novembre 2009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229360"/>
            <a:ext cx="7488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sentation du référentiel</a:t>
            </a:r>
            <a:endParaRPr b="0" i="1" lang="en-US" sz="18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428840" y="608796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vec le soutien du crédit coopératif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5950080"/>
            <a:ext cx="806400" cy="55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ésentation des différents axes du référenti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éférentiel de gouvernance des OGE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59260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1 : 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finit sa mission et ses objectif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 rapport Projet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publie son rapport d’ori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daction du rapport d’orient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lien avec les orientations du projet d’établissement et en conformité avec les orientations du CODI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écrit son règlement intérieur et l’ado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xer un calendrier des réun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r le principe de non rémunération des  membres de l’OGEC (évoquer le remboursement des frai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2 : 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312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crit sa structu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personnes et leurs fonc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organes (AG, CA, bureau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es délégations de responsabilités sont formalisé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duction des délibérations et procès-verbaux du CA donnant les délégations 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Président d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Chef d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3 : Gestion des 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85520" y="121392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ux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salariés, en lien avec le chef d’établissement, dans le cadre d’une politique sociale ouverte au dialogue et respectueuse des personn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salari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établit le contrat de travail du chef d’établissement après nomination de celui-ci par la tut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hef d’établissement reçoit délégation écrite pour la gestion du personnel ; le CA de l’OGEC s’assure qu’il en est rendu compte régulièrement, notamment sur les points suivants : liste des postes, procédure de recrutement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s’assure que les recrutements proposés par le chef d’établissement sont effectués dans la limite des postes inscrits au budge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cosigne avec le chef d’établissement les contrats de travai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veille à l’application des conventions collectives et statuts et à la mise en place de l’EAAD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él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0904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signe la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que élu signe une convention d’engagements réciproqu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établit un parcours d’intégration et d’accompagnement des nouveaux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met en œuvre les moyens nécessaires à la formation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 service d’un projet d’é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4 : 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08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Quatre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Gestion prévisionn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mptes annuel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nalyse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9959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du chef d’établissement 1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er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 et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mettre en œuvre un plan pluriannuel d’investissement, un budget annuel de fonctionnement et un budget annuel d’invest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contrôler l’exécu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type FNOGEC, INDICES PREVISIONN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qui intègrent un module prévisionne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élibérations: arrêté en CA avant le 31/08, approbation en AG avant le 28/02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cuments intermédiaires de contrôle de l’exécution des budget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situation au 28/02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72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glementation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 comptable de l’enseignement catholiqu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respecter un planning interne et statutaire préc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lôturer les comptes de l’exercice : contrôler, inventorier, révis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image fidèl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 et approuver le compte de fonctionnement, le bilan et l’annex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omptes agrég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2196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entre de gestion EC ou l’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A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AG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de synthèse, déclarations TPG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30/11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ning écrit de clôture, d’arrêté et d’approbation des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OGEC, mis à jour et à disposition des responsabl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dans les délais fix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apport annuel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limenter la base économique Enseignement cathol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udier les tableaux de bord INDICES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r les indicateu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eur économique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G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oire INDICES, et autres outils d’analyse financière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utils de contrôle budgétair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gestion établi par l’observateur économique EC ou l’expert-comptable dans les délais fix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trôle du respect des différents planning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539640" y="1628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786280" y="1214280"/>
            <a:ext cx="2880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OJET D’EDUCATION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643720" y="5286240"/>
            <a:ext cx="295272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MISSIONS et OBJECTIF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OGEC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nctionnement Organis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85840" y="5286240"/>
            <a:ext cx="273528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LETTRE de MISS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u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285840" y="1214280"/>
            <a:ext cx="3024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ORIENTATION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a Tutelle congréganiste ou diocésai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2286000" y="2714760"/>
            <a:ext cx="4248000" cy="201600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nseigner</a:t>
            </a:r>
            <a:r>
              <a:rPr b="0" i="1" lang="en-US" sz="900" spc="-1" strike="noStrike">
                <a:solidFill>
                  <a:srgbClr val="1e5aa0"/>
                </a:solidFill>
                <a:latin typeface="Verdana"/>
              </a:rPr>
              <a:t>                          </a:t>
            </a: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duqu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Propose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684360" y="6237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3" name="Line 38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4" name="Line 39"/>
          <p:cNvSpPr/>
          <p:nvPr/>
        </p:nvSpPr>
        <p:spPr>
          <a:xfrm flipV="1">
            <a:off x="4788000" y="335772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5" name="Line 40"/>
          <p:cNvSpPr/>
          <p:nvPr/>
        </p:nvSpPr>
        <p:spPr>
          <a:xfrm flipH="1" flipV="1">
            <a:off x="3492000" y="335772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5999040" y="250020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7" name="Line 42"/>
          <p:cNvSpPr/>
          <p:nvPr/>
        </p:nvSpPr>
        <p:spPr>
          <a:xfrm flipH="1">
            <a:off x="6286680" y="250020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8" name="Line 43"/>
          <p:cNvSpPr/>
          <p:nvPr/>
        </p:nvSpPr>
        <p:spPr>
          <a:xfrm>
            <a:off x="5999040" y="271620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607212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0" name="Line 45"/>
          <p:cNvSpPr/>
          <p:nvPr/>
        </p:nvSpPr>
        <p:spPr>
          <a:xfrm>
            <a:off x="6359400" y="4429080"/>
            <a:ext cx="289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6072120" y="46450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2" name="Line 47"/>
          <p:cNvSpPr/>
          <p:nvPr/>
        </p:nvSpPr>
        <p:spPr>
          <a:xfrm>
            <a:off x="235908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3" name="Line 48"/>
          <p:cNvSpPr/>
          <p:nvPr/>
        </p:nvSpPr>
        <p:spPr>
          <a:xfrm flipH="1">
            <a:off x="2071800" y="442908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4" name="Line 49"/>
          <p:cNvSpPr/>
          <p:nvPr/>
        </p:nvSpPr>
        <p:spPr>
          <a:xfrm flipH="1">
            <a:off x="2071800" y="4645080"/>
            <a:ext cx="57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5" name="Line 50"/>
          <p:cNvSpPr/>
          <p:nvPr/>
        </p:nvSpPr>
        <p:spPr>
          <a:xfrm flipV="1">
            <a:off x="2859120" y="26445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6" name="Line 51"/>
          <p:cNvSpPr/>
          <p:nvPr/>
        </p:nvSpPr>
        <p:spPr>
          <a:xfrm flipH="1" flipV="1">
            <a:off x="2643120" y="235692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2643120" y="23572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8" name="Line 53"/>
          <p:cNvSpPr/>
          <p:nvPr/>
        </p:nvSpPr>
        <p:spPr>
          <a:xfrm>
            <a:off x="1332000" y="2276640"/>
            <a:ext cx="25200" cy="29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9" name="Line 54"/>
          <p:cNvSpPr/>
          <p:nvPr/>
        </p:nvSpPr>
        <p:spPr>
          <a:xfrm>
            <a:off x="7429680" y="228600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0" name="Line 55"/>
          <p:cNvSpPr/>
          <p:nvPr/>
        </p:nvSpPr>
        <p:spPr>
          <a:xfrm>
            <a:off x="3348000" y="1700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1" name="Line 56"/>
          <p:cNvSpPr/>
          <p:nvPr/>
        </p:nvSpPr>
        <p:spPr>
          <a:xfrm>
            <a:off x="3071880" y="58579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70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ègles législatives liées à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amp légal d’investigation du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ttre en place des procédures de contrôle intern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hats, investissements, familles, paie, trésoreri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, évaluer et mettre à jour ces procédures en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8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illes types de procédur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guides FNOGEC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ise à jour du manuel de procédur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tion permanent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5 : 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090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établit un rapport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respecte ses obligations déclaratives dans les délais imparti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demandes, remarques et réclamations relatives à l’activité OGEC, sont prises en com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ssement du rapport de gestion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1748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Rapport moral de la vie associative, rapport financier, rapport d’orientation de l’association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35172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 et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rame type de rapport de gestion : DSEL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Verdana"/>
              </a:rPr>
              <a:t>(y ajouter en préambule, propre à chaque OGEC, le rapport moral de la vie associative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é du rapport écrit par le CA et approbation par l’AG, dans le respect du calendrier </a:t>
            </a:r>
            <a:r>
              <a:rPr b="0" i="1" lang="en-US" sz="1600" spc="-1" strike="noStrike">
                <a:solidFill>
                  <a:srgbClr val="000066"/>
                </a:solidFill>
                <a:latin typeface="Verdana"/>
              </a:rPr>
              <a:t>(dans les six mois de la clôture de l’exerci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172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64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ssement de 4 listes de documen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(A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Déclarations GS CFRR et GS CFRA (TP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+ rapport CAC ( JO 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sectoriels (Tiers financeurs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3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tableau des obligations financière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 la présentation des documents et des déla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nuel des procédures entériné par le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registrer les demandes, remarques, réclamations…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 les trait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ensemble des membres du personnel de l’établissement et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 l’associ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Un Projet d’Education porteur d’Espérance humaine et chrétie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Vous devez toujours être prêts à vous expliquer devant tous ceux qui vous demandent de rendre compte d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l’Espérance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qui est en vous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(1</a:t>
            </a:r>
            <a:r>
              <a:rPr b="0" lang="en-US" sz="2000" spc="-1" strike="noStrike" baseline="30000">
                <a:solidFill>
                  <a:srgbClr val="000066"/>
                </a:solidFill>
                <a:latin typeface="Verdana"/>
              </a:rPr>
              <a:t>èr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lettre de Pierre 3, 15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ches individuelles de réclamation ou de non-conformité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lassées par grands circuits de procédures : familles, achats, social, gestion financière, courrier)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gistre des réclamations ou des  non conformités </a:t>
            </a:r>
            <a:br>
              <a:rPr sz="1800"/>
            </a:b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à disposition du CA OGEC et des chefs d’établissement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s délais de traitement et de répons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 de la synthèse des réclamations et des non conformités dans le calendrier fixé initial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6 : Responsabilité sociétale 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veloppement dur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ponsabilité sociétale et développement dur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e cadre de l’élaboration de son rapport d’orientation et de l’exécution des plans et budgets, le CA de l’OGEC veille, avec le chef d’établissement, au respect de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s’assure que l’établissement est ouvert à to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appartient à des rése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 l’envir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egard particulier sur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économies d’énergie et de consommables (baisse de la consommation de gaz, eau, électricité, baisse de l’impression papier…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a politique de transports et l’utilisation de produits ou services qui ne nuisent pas à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tablissement ouvert à t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s’assurent de la conformité réglementaire et de l’accessibilité des loc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dispose d’un plan à jour de l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veillent à l’application des règles d’hygiène, de sécurité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’élaboration du budget avec le chef d’établissement, le CA de l’OGEC s’assure de l’égalité d’accès et de traitement entre les familles, dans le cadre des préconisations de l’Enseignement catholiqu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artenance à des réseau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0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, en lien avec le chef d’établissement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Veille à l’optimisation des coûts, met en place une mise en commun de moyens, une mutualisation des acha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ée des réseaux permettant de définir des synergies et de bâtir des projets commu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ticipe à des fonds de solidari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avorise la convivialit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st représenté aux structures institutionnelles et aux temps forts de ces structures afin de développer un sentiment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évelopper une culture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ffirmer et de vivre l’Identité et la Mission de l’Enseignement Catholique au sein de chaque communauté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ser l’innovation et l’expérim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valoriser l’audace pédagogique et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Impulser et accompagner les changement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nticiper les évolutions à conduir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Reconnaître et promouvoir la perso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croire en l’Homme engagé dans « l’Oeuvre de création 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440" y="15714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Mission d’Enseigner, d’Eduquer et de Proposer un sens chrétien de l’Homme et de la vi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 référer au statut de l’Enseignement Catholique de 1992 et 1996, à la démarche d’Assises, aux orientations diocésaines et congréganistes (charisme fondateur) et au statut du Chef d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ettre en œuvre les objectifs prioritaires suivant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onnaître et reconnaître les personnes et les structures afin de comprendre et d’intégrer l’histoire, l’identité et la cultur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Encourager et soutenir l’implication des enseignants et de l’ensemble de personnels dans l’animation pédagogique et éducativ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nimer le projet pastoral en lien avec les acteurs paroissiaux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ssocier les parents à la vie de l’établissement : il est important de nommer  les projets de restructuration, de construction, d’aménagement ou de travaux  à conduire avec l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évelopper la synergie de réseau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ivilégier le management participatif et la communication interne et extern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276720" y="1413000"/>
            <a:ext cx="287964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service en Eglis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’établissement se situe dans une Eglise diocésaine et une réalité paroissial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156360" y="2995560"/>
            <a:ext cx="287964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établissement voulu et choisi par les Parents…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où ils sont invités à s’engag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148360" y="4941720"/>
            <a:ext cx="381636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gestion au service de la Mission d’Instruction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Un immobilier et des équipements accueillants et fonctionnels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79280" y="4941720"/>
            <a:ext cx="446400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Communauté Educative mobilisée autour du 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Principe d’exemplarité éducativ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    le « dire » et le « faire »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e « croire » et le « vivre »…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79280" y="2924280"/>
            <a:ext cx="288000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Projet d’Enseignement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Inspiré et fondé pa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3276720" y="2708280"/>
            <a:ext cx="2735280" cy="194472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mission de service public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institution éducative chrétien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6" name="Line 12"/>
          <p:cNvSpPr/>
          <p:nvPr/>
        </p:nvSpPr>
        <p:spPr>
          <a:xfrm flipV="1">
            <a:off x="464328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01200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3059280" y="3573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3492360" y="450864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5364000" y="450864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4643280" y="5589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971640" y="4005360"/>
            <a:ext cx="504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3" name="Line 19"/>
          <p:cNvSpPr/>
          <p:nvPr/>
        </p:nvSpPr>
        <p:spPr>
          <a:xfrm flipH="1">
            <a:off x="7812000" y="407664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900000" y="2205000"/>
            <a:ext cx="2376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6156360" y="2205000"/>
            <a:ext cx="216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 5 clés d’un 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7090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éférentiel de gouvernance : un outil au service du bon fonctionnement du trépied institutionnel (tutelle, chef d’établissement et OGEC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8:49:49Z</dcterms:created>
  <dc:creator>jmlelievre</dc:creator>
  <dc:description/>
  <dc:language>en-US</dc:language>
  <cp:lastModifiedBy>aregnault</cp:lastModifiedBy>
  <dcterms:modified xsi:type="dcterms:W3CDTF">2009-11-18T14:53:38Z</dcterms:modified>
  <cp:revision>55</cp:revision>
  <dc:subject/>
  <dc:title>Journée des permanents des URO/UDOGEC</dc:title>
</cp:coreProperties>
</file>