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nogec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00120" y="421452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 synthè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9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éférentiel en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6 ax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17 obj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45 caractéristi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Indicateurs et plan d’action destinés à mesurer les progrès et apprécier les résultats par rapport aux objectifs fixé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e référentiel est modulable et évolutif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Hiérarchisation des objectifs, mises à jour ou nouveaux documents de référence, nouveaux aspects à intégrer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ils à dis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ur la clé usb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e référenti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es documents de référence institutionne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es exemples d’indicateur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Un modèle de plan d’ac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es préconisations minimal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Une rubrique sur </a:t>
            </a:r>
            <a:r>
              <a:rPr b="0" lang="fr-FR" sz="2000" spc="-1" strike="noStrike" u="sng">
                <a:solidFill>
                  <a:srgbClr val="1e5aa0"/>
                </a:solidFill>
                <a:uFillTx/>
                <a:latin typeface="Verdana"/>
                <a:hlinkClick r:id="rId1"/>
              </a:rPr>
              <a:t>www.fnogec.org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pour les mises à jour et nouveaux outi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Contenu de la clé us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5869080" cy="2022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1628640"/>
            <a:ext cx="266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La clé usb contient les dossiers suivants 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26" name="Rectangle 9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5329440" cy="26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03280" y="2276640"/>
            <a:ext cx="360360" cy="50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076640"/>
            <a:ext cx="363528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étail du dossier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« Référentiel de gouvernance » : </a:t>
            </a:r>
            <a:br>
              <a:rPr sz="1600"/>
            </a:b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es documents de référence par axe déjà intégrés, d’autres qui seront à classer par l’OGEC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53737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 d’actio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chéma simplifié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700280"/>
          <a:ext cx="8638920" cy="4468680"/>
        </p:xfrm>
        <a:graphic>
          <a:graphicData uri="http://schemas.openxmlformats.org/drawingml/2006/table">
            <a:tbl>
              <a:tblPr/>
              <a:tblGrid>
                <a:gridCol w="758520"/>
                <a:gridCol w="1603440"/>
                <a:gridCol w="1255680"/>
                <a:gridCol w="1131840"/>
                <a:gridCol w="1008000"/>
                <a:gridCol w="1368720"/>
                <a:gridCol w="151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xes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rientations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bjectifs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ctions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Pilote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alendrier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ndicateurs</a:t>
                      </a:r>
                      <a:endParaRPr b="0" i="1" lang="en-US" sz="16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issions et objectifs</a:t>
                      </a:r>
                      <a:endParaRPr b="0" i="1" lang="en-US" sz="14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rganisation et fonctionnement</a:t>
                      </a:r>
                      <a:endParaRPr b="0" i="1" lang="en-US" sz="14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estion des richesses humaines</a:t>
                      </a:r>
                      <a:endParaRPr b="0" i="1" lang="en-US" sz="14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estion financière</a:t>
                      </a:r>
                      <a:endParaRPr b="0" i="1" lang="en-US" sz="14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ommunication et transparence</a:t>
                      </a:r>
                      <a:endParaRPr b="0" i="1" lang="en-US" sz="14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esponsabilité sociétale et développement durable</a:t>
                      </a:r>
                      <a:endParaRPr b="0" i="1" lang="en-US" sz="14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1e5aa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éconisations minimale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list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Rectangle 9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578480" cy="5475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170028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n questionnaire rapide d’autodiagnostic qui ne se substitue pas à l’application progressive du référentiel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l constitue un point d’entrée dans la démarche et c’est également une approche simplifiée de la gouvernance pour les plus petites structures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4869000"/>
            <a:ext cx="503280" cy="647640"/>
          </a:xfrm>
          <a:custGeom>
            <a:avLst/>
            <a:gdLst>
              <a:gd name="textAreaLeft" fmla="*/ 67320 w 503280"/>
              <a:gd name="textAreaRight" fmla="*/ 435960 w 503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mpagnement et sui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2960" y="1928880"/>
            <a:ext cx="7709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comité de pilotage au sein de l’établissement avec évaluation au moins une fois par a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accompagnement des UDO-UROGEC à structurer au plus près des territoires pour atteindre les objectifs en matière de qualité de foncti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7986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ette démarche de bonne gouvernance ne sera durable que si elle est à la foi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spcAft>
                <a:spcPts val="1125"/>
              </a:spcAft>
              <a:buClr>
                <a:srgbClr val="ff99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i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spcAft>
                <a:spcPts val="1125"/>
              </a:spcAft>
              <a:buClr>
                <a:srgbClr val="ff99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iv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spcAft>
                <a:spcPts val="1125"/>
              </a:spcAft>
              <a:buClr>
                <a:srgbClr val="ff99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qui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humanité ne peut survivre que si chacun là où il est se rend compte qu’il a intérêt au mieux être des autr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transparence est une exigence omniprésen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l est important de prendre en compte les atouts e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erception de toutes les parties prenant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évaluation est devenue un aspect incontournable de la transpare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5 principes d’une bonne gouver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840" y="1785960"/>
            <a:ext cx="66434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uver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articip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sponsabil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Efficac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hére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 référentiel de gouver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5520" y="2072880"/>
            <a:ext cx="77086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e démarche de progrè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outil au service de la prévention des difficulté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 stratégie selon 3 ax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3920" y="1785960"/>
            <a:ext cx="73170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28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-36360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s Hommes et des Femm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-36360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s services éduca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-36360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s territoir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uvoir une commun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1720" y="1785960"/>
            <a:ext cx="7215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u faire savoi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u savoir fai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u savoir êt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Fais ce que tu dis et dis ce que tu fais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es du référent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628280"/>
            <a:ext cx="77090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aciliter la conduite, la gestion et le fonctionnemen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s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rmaliser la gouvernance de façon écri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ppliquer dans les petites et grandes structures, chacun à son rythme et au plus près des réalités du terra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’engager pour mettre en place et faire vivre le référenti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20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Référentiel en 6 ax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778680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357120" algn="just">
              <a:spcBef>
                <a:spcPts val="45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sions et objectifs : </a:t>
            </a:r>
            <a:r>
              <a:rPr b="0" i="1" lang="fr-FR" sz="1800" spc="-1" strike="noStrike">
                <a:solidFill>
                  <a:srgbClr val="000066"/>
                </a:solidFill>
                <a:latin typeface="Verdana"/>
              </a:rPr>
              <a:t>3 caractérist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442800" indent="-357120" algn="just">
              <a:spcBef>
                <a:spcPts val="45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ganisation et fonctionnement : </a:t>
            </a:r>
            <a:r>
              <a:rPr b="0" i="1" lang="fr-FR" sz="1800" spc="-1" strike="noStrike">
                <a:solidFill>
                  <a:srgbClr val="000066"/>
                </a:solidFill>
                <a:latin typeface="Verdana"/>
              </a:rPr>
              <a:t>2 caractérist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442800" indent="-357120" algn="just">
              <a:spcBef>
                <a:spcPts val="45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Gestion des richesses humaines : </a:t>
            </a:r>
            <a:r>
              <a:rPr b="0" i="1" lang="fr-FR" sz="1800" spc="-1" strike="noStrike">
                <a:solidFill>
                  <a:srgbClr val="000066"/>
                </a:solidFill>
                <a:latin typeface="Verdana"/>
              </a:rPr>
              <a:t>2 caractérist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442800" indent="-357120" algn="just">
              <a:spcBef>
                <a:spcPts val="45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Gestion financière : </a:t>
            </a:r>
            <a:r>
              <a:rPr b="0" i="1" lang="fr-FR" sz="1800" spc="-1" strike="noStrike">
                <a:solidFill>
                  <a:srgbClr val="000066"/>
                </a:solidFill>
                <a:latin typeface="Verdana"/>
              </a:rPr>
              <a:t>4 caractérist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442800" indent="-357120" algn="just">
              <a:spcBef>
                <a:spcPts val="45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mmunication et transparence : </a:t>
            </a:r>
            <a:r>
              <a:rPr b="0" i="1" lang="fr-FR" sz="1800" spc="-1" strike="noStrike">
                <a:solidFill>
                  <a:srgbClr val="000066"/>
                </a:solidFill>
                <a:latin typeface="Verdana"/>
              </a:rPr>
              <a:t>3 caractérist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442800" indent="-357120" algn="just">
              <a:spcBef>
                <a:spcPts val="451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esponsabilité sociétale et développement durable : </a:t>
            </a:r>
            <a:br>
              <a:rPr sz="2000"/>
            </a:br>
            <a:r>
              <a:rPr b="0" i="1" lang="fr-FR" sz="1800" spc="-1" strike="noStrike">
                <a:solidFill>
                  <a:srgbClr val="000066"/>
                </a:solidFill>
                <a:latin typeface="Verdana"/>
              </a:rPr>
              <a:t>3 caractérist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jectifs, documents et indicateu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0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our chaque axe, des objectifs sont fixé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our chaque objectif, des documents de référence sont mentionnés : </a:t>
            </a:r>
            <a:r>
              <a:rPr b="0" i="1" lang="en-US" sz="1800" spc="-1" strike="noStrike">
                <a:solidFill>
                  <a:srgbClr val="000066"/>
                </a:solidFill>
                <a:latin typeface="Verdana"/>
              </a:rPr>
              <a:t>à produire pour démontrer le respect de ces objectif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our chaque objectif, des indicateurs sont à définir par l’OGEC : </a:t>
            </a:r>
            <a:r>
              <a:rPr b="0" i="1" lang="en-US" sz="1800" spc="-1" strike="noStrike">
                <a:solidFill>
                  <a:srgbClr val="000066"/>
                </a:solidFill>
                <a:latin typeface="Verdana"/>
              </a:rPr>
              <a:t>permettront d’apprécier les résultats et de mesurer les progrè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39:58Z</dcterms:modified>
  <cp:revision>53</cp:revision>
  <dc:subject/>
  <dc:title>Journée des permanents des URO/UDOGEC</dc:title>
</cp:coreProperties>
</file>