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222768-F9ED-4648-AA1A-4AFCE2C9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31109F-9EC0-4785-B86E-44BA3B1C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E593D2-1AB4-401E-85B7-3764D866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DBC8C-090F-4099-8513-59804563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ED7B1E-348F-4689-AD32-EDD2ED76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A56F72-92C6-479E-AEBB-33DAE043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3E35F4-4F77-47C5-8D0B-F49ECE32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C6EA29-EBB8-42D7-BF26-706D81C1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8B09BE-07D4-4781-A254-6743B743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DB358C-52FF-4BB9-A43F-026D32A0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EAC16B-A3D6-4F57-8D90-85E3172D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4B7954-FDE4-4D32-BDE4-6386A6B7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2600"/>
            <a:ext cx="9144000" cy="6870600"/>
            <a:chOff x="0" y="-12600"/>
            <a:chExt cx="914400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-1260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336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9144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6578640"/>
              <a:ext cx="9144000" cy="27936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6654960"/>
              <a:ext cx="9144000" cy="75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160200" y="76320"/>
            <a:ext cx="882360" cy="887400"/>
            <a:chOff x="160200" y="76320"/>
            <a:chExt cx="882360" cy="887400"/>
          </a:xfrm>
        </p:grpSpPr>
        <p:sp>
          <p:nvSpPr>
            <p:cNvPr id="11" name="Rectangle 13"/>
            <p:cNvSpPr/>
            <p:nvPr/>
          </p:nvSpPr>
          <p:spPr>
            <a:xfrm>
              <a:off x="160200" y="147600"/>
              <a:ext cx="818640" cy="816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23560" y="76320"/>
              <a:ext cx="819000" cy="8157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514" h="514">
                  <a:moveTo>
                    <a:pt x="0" y="0"/>
                  </a:moveTo>
                  <a:lnTo>
                    <a:pt x="514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4" y="514"/>
                  </a:lnTo>
                  <a:lnTo>
                    <a:pt x="514" y="514"/>
                  </a:lnTo>
                  <a:lnTo>
                    <a:pt x="474" y="514"/>
                  </a:lnTo>
                  <a:lnTo>
                    <a:pt x="439" y="512"/>
                  </a:lnTo>
                  <a:lnTo>
                    <a:pt x="408" y="508"/>
                  </a:lnTo>
                  <a:lnTo>
                    <a:pt x="377" y="501"/>
                  </a:lnTo>
                  <a:lnTo>
                    <a:pt x="324" y="488"/>
                  </a:lnTo>
                  <a:lnTo>
                    <a:pt x="275" y="477"/>
                  </a:lnTo>
                  <a:lnTo>
                    <a:pt x="249" y="473"/>
                  </a:lnTo>
                  <a:lnTo>
                    <a:pt x="222" y="468"/>
                  </a:lnTo>
                  <a:lnTo>
                    <a:pt x="194" y="468"/>
                  </a:lnTo>
                  <a:lnTo>
                    <a:pt x="163" y="470"/>
                  </a:lnTo>
                  <a:lnTo>
                    <a:pt x="130" y="477"/>
                  </a:lnTo>
                  <a:lnTo>
                    <a:pt x="90" y="486"/>
                  </a:lnTo>
                  <a:lnTo>
                    <a:pt x="48" y="497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13" name="Picture 16" descr=""/>
          <p:cNvPicPr/>
          <p:nvPr/>
        </p:nvPicPr>
        <p:blipFill>
          <a:blip r:embed="rId2"/>
          <a:stretch/>
        </p:blipFill>
        <p:spPr>
          <a:xfrm>
            <a:off x="225360" y="228600"/>
            <a:ext cx="78120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e5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0" y="234324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0" y="24192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0" y="327024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3429000" y="533520"/>
            <a:ext cx="2266920" cy="1422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066680" y="4800600"/>
            <a:ext cx="69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685800" y="2438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258920" y="270180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0" y="-12600"/>
            <a:ext cx="9144000" cy="6870600"/>
            <a:chOff x="0" y="-12600"/>
            <a:chExt cx="9144000" cy="6870600"/>
          </a:xfrm>
        </p:grpSpPr>
        <p:sp>
          <p:nvSpPr>
            <p:cNvPr id="100" name="Rectangle 3"/>
            <p:cNvSpPr/>
            <p:nvPr/>
          </p:nvSpPr>
          <p:spPr>
            <a:xfrm>
              <a:off x="0" y="-1260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1" name="Rectangle 4"/>
            <p:cNvSpPr/>
            <p:nvPr/>
          </p:nvSpPr>
          <p:spPr>
            <a:xfrm>
              <a:off x="0" y="6336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2" name="Rectangle 5"/>
            <p:cNvSpPr/>
            <p:nvPr/>
          </p:nvSpPr>
          <p:spPr>
            <a:xfrm>
              <a:off x="0" y="9144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3" name="Rectangle 6"/>
            <p:cNvSpPr/>
            <p:nvPr/>
          </p:nvSpPr>
          <p:spPr>
            <a:xfrm>
              <a:off x="0" y="6578640"/>
              <a:ext cx="9144000" cy="27936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0" y="6654960"/>
              <a:ext cx="9144000" cy="75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grpSp>
        <p:nvGrpSpPr>
          <p:cNvPr id="105" name="Group 12"/>
          <p:cNvGrpSpPr/>
          <p:nvPr/>
        </p:nvGrpSpPr>
        <p:grpSpPr>
          <a:xfrm>
            <a:off x="160200" y="76320"/>
            <a:ext cx="882360" cy="887400"/>
            <a:chOff x="160200" y="76320"/>
            <a:chExt cx="882360" cy="887400"/>
          </a:xfrm>
        </p:grpSpPr>
        <p:sp>
          <p:nvSpPr>
            <p:cNvPr id="106" name="Rectangle 13"/>
            <p:cNvSpPr/>
            <p:nvPr/>
          </p:nvSpPr>
          <p:spPr>
            <a:xfrm>
              <a:off x="160200" y="147600"/>
              <a:ext cx="818640" cy="816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7" name="Freeform 14"/>
            <p:cNvSpPr/>
            <p:nvPr/>
          </p:nvSpPr>
          <p:spPr>
            <a:xfrm>
              <a:off x="223560" y="76320"/>
              <a:ext cx="819000" cy="8157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514" h="514">
                  <a:moveTo>
                    <a:pt x="0" y="0"/>
                  </a:moveTo>
                  <a:lnTo>
                    <a:pt x="514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4" y="514"/>
                  </a:lnTo>
                  <a:lnTo>
                    <a:pt x="514" y="514"/>
                  </a:lnTo>
                  <a:lnTo>
                    <a:pt x="474" y="514"/>
                  </a:lnTo>
                  <a:lnTo>
                    <a:pt x="439" y="512"/>
                  </a:lnTo>
                  <a:lnTo>
                    <a:pt x="408" y="508"/>
                  </a:lnTo>
                  <a:lnTo>
                    <a:pt x="377" y="501"/>
                  </a:lnTo>
                  <a:lnTo>
                    <a:pt x="324" y="488"/>
                  </a:lnTo>
                  <a:lnTo>
                    <a:pt x="275" y="477"/>
                  </a:lnTo>
                  <a:lnTo>
                    <a:pt x="249" y="473"/>
                  </a:lnTo>
                  <a:lnTo>
                    <a:pt x="222" y="468"/>
                  </a:lnTo>
                  <a:lnTo>
                    <a:pt x="194" y="468"/>
                  </a:lnTo>
                  <a:lnTo>
                    <a:pt x="163" y="470"/>
                  </a:lnTo>
                  <a:lnTo>
                    <a:pt x="130" y="477"/>
                  </a:lnTo>
                  <a:lnTo>
                    <a:pt x="90" y="486"/>
                  </a:lnTo>
                  <a:lnTo>
                    <a:pt x="48" y="497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225360" y="228600"/>
            <a:ext cx="781200" cy="525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6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-08-05 prérentrée des CE © DDEC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18A1-F18C-4E08-B1E6-83684A54B6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Référentiel de gouvernance : une démarche de progrè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urnée du 20 novembre 2009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5229360"/>
            <a:ext cx="7488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ésentation du référentiel</a:t>
            </a:r>
            <a:endParaRPr b="0" i="1" lang="en-US" sz="18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428840" y="6087960"/>
            <a:ext cx="6400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vec le soutien du crédit coopératif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59640" y="5950080"/>
            <a:ext cx="806400" cy="55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ésentation des différents axes du référenti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éférentiel de gouvernance des OGE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592600" cy="50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1 : Missions et objectif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ssions et objectif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définit sa mission et ses objectif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ar rapport Projet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publie son rapport d’orienta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édaction du rapport d’orient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 lien avec les orientations du projet d’établissement et en conformité avec les orientations du CODI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écrit son règlement intérieur et l’adopt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xer un calendrier des réunio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ablir le principe de non rémunération des  membres de l’OGEC (évoquer le remboursement des frais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2 : Organisation et fonction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ganisation et fonction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0312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décrit sa structur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rganigramme pour les personnes et leurs fonctio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rganigramme pour les organes (AG, CA, bureau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es délégations de responsabilités sont formalisé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oduction des délibérations et procès-verbaux du CA donnant les délégations 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u Président d’OGEC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u Chef d’établ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3 : Gestion des richesses humai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ichesses humai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85520" y="121392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Deux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4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rganisme met en œuvre une gestion des richesses humaines vis-à-vis de ses salariés, en lien avec le chef d’établissement, dans le cadre d’une politique sociale ouverte au dialogue et respectueuse des personn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rganisme met en œuvre une gestion des richesses humaines vis-à-vis de ses él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-à-vis des salari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président de l’OGEC établit le contrat de travail du chef d’établissement après nomination de celui-ci par la tutell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hef d’établissement reçoit délégation écrite pour la gestion du personnel ; le CA de l’OGEC s’assure qu’il en est rendu compte régulièrement, notamment sur les points suivants : liste des postes, procédure de recrutement…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s’assure que les recrutements proposés par le chef d’établissement sont effectués dans la limite des postes inscrits au budge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président de l’OGEC cosigne avec le chef d’établissement les contrats de travai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veille à l’application des conventions collectives et statuts et à la mise en place de l’EAAD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-à-vis des él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0904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président de l’OGEC signe la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que élu signe une convention d’engagements réciproqu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établit un parcours d’intégration et d’accompagnement des nouveaux él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met en œuvre les moyens nécessaires à la formation de ses él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 service d’un projet d’é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4 : Gestion financiè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086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Quatre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Gestion prévisionnell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omptes annuel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nalyse de ges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ontrôle inter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prévisionn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9959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du chef d’établissement 1</a:t>
            </a:r>
            <a:r>
              <a:rPr b="0" lang="en-US" sz="1800" spc="-1" strike="noStrike" baseline="30000">
                <a:solidFill>
                  <a:srgbClr val="000066"/>
                </a:solidFill>
                <a:latin typeface="Verdana"/>
              </a:rPr>
              <a:t>er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degré et 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degré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Établir et mettre en œuvre un plan pluriannuel d’investissement, un budget annuel de fonctionnement et un budget annuel d’invest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 contrôler l’exécu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prévisionn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ableaux type FNOGEC, INDICES PREVISIONN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ogiciels de gestion qui intègrent un module prévisionne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224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élibérations: arrêté en CA avant le 31/08, approbation en AG avant le 28/02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cuments intermédiaires de contrôle de l’exécution des budgets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situation au 28/02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tes annu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072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l’éduc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églementation sur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lan comptable de l’enseignement catholique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Établir et respecter un planning interne et statutaire préci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lôturer les comptes de l’exercice : contrôler, inventorier, réviser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image fidèl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rêter et approuver le compte de fonctionnement, le bilan et l’annexe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comptes agrégés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tes annu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66840"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366840" indent="2196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s 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s 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 centre de gestion EC ou l’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 CA de l’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 commissaire aux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’AG de l’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66840"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tes annu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ssier de suivi et révision des comptes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ogiciels de gestion adapt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ableaux de synthèse, déclarations TPG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30/11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lanning écrit de clôture, d’arrêté et d’approbation des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ssier de suivi et révision des comptes OGEC, mis à jour et à disposition des responsables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dans les délais fixés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SEL, guide comptable et financier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apport annuel de l’observatoire économiqu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limenter la base économique Enseignement catholiqu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udier les tableaux de bord INDICES de l’observatoire économiqu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nalyser les indicateu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bservateur économique EC, 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G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93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bservatoire INDICES, et autres outils d’analyse financière adapt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utils de contrôle budgétaire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ssier de gestion établi par l’observateur économique EC ou l’expert-comptable dans les délais fix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ntrôle du respect des différents planning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539640" y="1628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5786280" y="1214280"/>
            <a:ext cx="2880000" cy="1079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PROJET D’EDUCATION 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e l’établissement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643720" y="5286240"/>
            <a:ext cx="2952720" cy="115272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MISSIONS et OBJECTIFS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e l’OGEC 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Fonctionnement Organisat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285840" y="5286240"/>
            <a:ext cx="2735280" cy="115272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LETTRE de MISS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u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Chef d’établissement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285840" y="1214280"/>
            <a:ext cx="3024000" cy="1079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ORIENTATIONS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e la Tutelle congréganiste ou diocésaine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2286000" y="2714760"/>
            <a:ext cx="4248000" cy="2016000"/>
          </a:xfrm>
          <a:prstGeom prst="ellipse">
            <a:avLst/>
          </a:prstGeom>
          <a:solidFill>
            <a:srgbClr val="fed9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e5aa0"/>
                </a:solidFill>
                <a:latin typeface="Verdana"/>
              </a:rPr>
              <a:t>Enseigner</a:t>
            </a:r>
            <a:r>
              <a:rPr b="0" i="1" lang="en-US" sz="900" spc="-1" strike="noStrike">
                <a:solidFill>
                  <a:srgbClr val="1e5aa0"/>
                </a:solidFill>
                <a:latin typeface="Verdana"/>
              </a:rPr>
              <a:t>                          </a:t>
            </a:r>
            <a:r>
              <a:rPr b="0" i="1" lang="en-US" sz="1400" spc="-1" strike="noStrike">
                <a:solidFill>
                  <a:srgbClr val="1e5aa0"/>
                </a:solidFill>
                <a:latin typeface="Verdana"/>
              </a:rPr>
              <a:t>Eduquer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e5aa0"/>
                </a:solidFill>
                <a:latin typeface="Verdana"/>
              </a:rPr>
              <a:t>Proposer un sens chrétien de l’Homme et de la Vi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684360" y="623736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3" name="Line 38"/>
          <p:cNvSpPr/>
          <p:nvPr/>
        </p:nvSpPr>
        <p:spPr>
          <a:xfrm>
            <a:off x="4067280" y="321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4" name="Line 39"/>
          <p:cNvSpPr/>
          <p:nvPr/>
        </p:nvSpPr>
        <p:spPr>
          <a:xfrm flipV="1">
            <a:off x="4788000" y="335772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5" name="Line 40"/>
          <p:cNvSpPr/>
          <p:nvPr/>
        </p:nvSpPr>
        <p:spPr>
          <a:xfrm flipH="1" flipV="1">
            <a:off x="3492000" y="335772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6" name="Line 41"/>
          <p:cNvSpPr/>
          <p:nvPr/>
        </p:nvSpPr>
        <p:spPr>
          <a:xfrm flipV="1">
            <a:off x="5999040" y="250020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7" name="Line 42"/>
          <p:cNvSpPr/>
          <p:nvPr/>
        </p:nvSpPr>
        <p:spPr>
          <a:xfrm flipH="1">
            <a:off x="6286680" y="2500200"/>
            <a:ext cx="217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8" name="Line 43"/>
          <p:cNvSpPr/>
          <p:nvPr/>
        </p:nvSpPr>
        <p:spPr>
          <a:xfrm>
            <a:off x="5999040" y="271620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9" name="Line 44"/>
          <p:cNvSpPr/>
          <p:nvPr/>
        </p:nvSpPr>
        <p:spPr>
          <a:xfrm flipV="1">
            <a:off x="6072120" y="442908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0" name="Line 45"/>
          <p:cNvSpPr/>
          <p:nvPr/>
        </p:nvSpPr>
        <p:spPr>
          <a:xfrm>
            <a:off x="6359400" y="4429080"/>
            <a:ext cx="289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1" name="Line 46"/>
          <p:cNvSpPr/>
          <p:nvPr/>
        </p:nvSpPr>
        <p:spPr>
          <a:xfrm>
            <a:off x="6072120" y="46450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2" name="Line 47"/>
          <p:cNvSpPr/>
          <p:nvPr/>
        </p:nvSpPr>
        <p:spPr>
          <a:xfrm>
            <a:off x="2359080" y="442908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3" name="Line 48"/>
          <p:cNvSpPr/>
          <p:nvPr/>
        </p:nvSpPr>
        <p:spPr>
          <a:xfrm flipH="1">
            <a:off x="2071800" y="4429080"/>
            <a:ext cx="28728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4" name="Line 49"/>
          <p:cNvSpPr/>
          <p:nvPr/>
        </p:nvSpPr>
        <p:spPr>
          <a:xfrm flipH="1">
            <a:off x="2071800" y="4645080"/>
            <a:ext cx="5760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5" name="Line 50"/>
          <p:cNvSpPr/>
          <p:nvPr/>
        </p:nvSpPr>
        <p:spPr>
          <a:xfrm flipV="1">
            <a:off x="2859120" y="264456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6" name="Line 51"/>
          <p:cNvSpPr/>
          <p:nvPr/>
        </p:nvSpPr>
        <p:spPr>
          <a:xfrm flipH="1" flipV="1">
            <a:off x="2643120" y="2356920"/>
            <a:ext cx="503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7" name="Line 52"/>
          <p:cNvSpPr/>
          <p:nvPr/>
        </p:nvSpPr>
        <p:spPr>
          <a:xfrm>
            <a:off x="2643120" y="235728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8" name="Line 53"/>
          <p:cNvSpPr/>
          <p:nvPr/>
        </p:nvSpPr>
        <p:spPr>
          <a:xfrm>
            <a:off x="1332000" y="2276640"/>
            <a:ext cx="25200" cy="29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9" name="Line 54"/>
          <p:cNvSpPr/>
          <p:nvPr/>
        </p:nvSpPr>
        <p:spPr>
          <a:xfrm>
            <a:off x="7429680" y="228600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80" name="Line 55"/>
          <p:cNvSpPr/>
          <p:nvPr/>
        </p:nvSpPr>
        <p:spPr>
          <a:xfrm>
            <a:off x="3348000" y="17002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81" name="Line 56"/>
          <p:cNvSpPr/>
          <p:nvPr/>
        </p:nvSpPr>
        <p:spPr>
          <a:xfrm>
            <a:off x="3071880" y="58579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ôle inter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70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ègles législatives liées à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uide démarche qualité et contrôle interne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amp légal d’investigation du commissaire aux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ettre en place des procédures de contrôle interne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achats, investissements, familles, paie, trésoreri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rêter, évaluer et mettre à jour ces procédures en 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ôle inter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82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entre de gestion EC, 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rilles types de procédure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guides FNOGEC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ise à jour du manuel de procédures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action permanent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5 : Communication et transpa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unication et transpa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090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rois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établit un rapport de ges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respecte ses obligations déclaratives dans les délais imparti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s demandes, remarques et réclamations relatives à l’activité OGEC, sont prises en compt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pport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commerc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extes législatifs sur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17928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Établissement du rapport de gestion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717480"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Rapport moral de la vie associative, rapport financier, rapport d’orientation de l’association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pport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351720" indent="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2" marL="3517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2740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 et 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274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517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2740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rame type de rapport de gestion : DSEL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Verdana"/>
              </a:rPr>
              <a:t>(y ajouter en préambule, propre à chaque OGEC, le rapport moral de la vie associative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3" marL="527400" indent="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2" marL="3517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2740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rêté du rapport écrit par le CA et approbation par l’AG, dans le respect du calendrier </a:t>
            </a:r>
            <a:r>
              <a:rPr b="0" i="1" lang="en-US" sz="1600" spc="-1" strike="noStrike">
                <a:solidFill>
                  <a:srgbClr val="000066"/>
                </a:solidFill>
                <a:latin typeface="Verdana"/>
              </a:rPr>
              <a:t>(dans les six mois de la clôture de l’exercic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2740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35172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ions déclara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64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l’éduc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commerc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extes législatifs sur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ablissement de 4 listes de document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tes annuels (AG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Déclarations GS CFRR et GS CFRA (TPG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tes annuels + rapport CAC ( JO 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tes sectoriels (Tiers financeurs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ions déclara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indent="0" algn="just">
              <a:spcBef>
                <a:spcPts val="3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entre de gestion EC, 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missaire aux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ions déclara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algn="just"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SEL, guide comptable et financier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tableau des obligations financières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spect de la présentation des documents et des délai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mandes, remarques et réclam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uide démarche qualité et contrôle interne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anuel des procédures entériné par le 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registrer les demandes, remarques, réclamations…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 les traite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’ensemble des membres du personnel de l’établissement et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 l’associ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ientations de la tut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Un Projet d’Education porteur d’Espérance humaine et chrétien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« Vous devez toujours être prêts à vous expliquer devant tous ceux qui vous demandent de rendre compte de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l’Espérance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qui est en vous »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(1</a:t>
            </a:r>
            <a:r>
              <a:rPr b="0" lang="en-US" sz="2000" spc="-1" strike="noStrike" baseline="30000">
                <a:solidFill>
                  <a:srgbClr val="000066"/>
                </a:solidFill>
                <a:latin typeface="Verdana"/>
              </a:rPr>
              <a:t>ère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lettre de Pierre 3, 15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mandes, remarques et réclam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2" marL="358920" indent="4680" algn="just"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ches individuelles de réclamation ou de non-conformité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classées par grands circuits de procédures : familles, achats, social, gestion financière, courrier)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gistre des réclamations ou des  non conformités </a:t>
            </a:r>
            <a:br>
              <a:rPr sz="1800"/>
            </a:b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à disposition du CA OGEC et des chefs d’établissement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4288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358920" indent="468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spect des délais de traitement et de réponse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nalyse de la synthèse des réclamations et des non conformités dans le calendrier fixé initial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5892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6 : Responsabilité sociétale 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éveloppement dur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ponsabilité sociétale et développement dura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rois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4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ans le cadre de l’élaboration de son rapport d’orientation et de l’exécution des plans et budgets, le CA de l’OGEC veille, avec le chef d’établissement, au respect de l’environ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s’assure que l’établissement est ouvert à to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appartient à des réseaux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ect de l’environ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647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egard particulier sur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749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s économies d’énergie et de consommables (baisse de la consommation de gaz, eau, électricité, baisse de l’impression papier…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749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a politique de transports et l’utilisation de produits ou services qui ne nuisent pas à l’environ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tablissement ouvert à t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et le chef d’établissement s’assurent de la conformité réglementaire et de l’accessibilité des locaux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dispose d’un plan à jour de l’établiss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et le chef d’établissement veillent à l’application des règles d’hygiène, de sécurité…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ans l’élaboration du budget avec le chef d’établissement, le CA de l’OGEC s’assure de l’égalité d’accès et de traitement entre les familles, dans le cadre des préconisations de l’Enseignement catholiqu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artenance à des réseaux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920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, en lien avec le chef d’établissement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Veille à l’optimisation des coûts, met en place une mise en commun de moyens, une mutualisation des acha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rée des réseaux permettant de définir des synergies et de bâtir des projets commu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articipe à des fonds de solidarit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avorise la convivialité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est représenté aux structures institutionnelles et aux temps forts de ces structures afin de développer un sentiment d’appartenanc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ientations de la tut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Développer une culture d’appartenanc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’affirmer et de vivre l’Identité et la Mission de l’Enseignement Catholique au sein de chaque communauté éducativ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Oser l’innovation et l’expérimenta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e valoriser l’audace pédagogique et éducativ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Impulser et accompagner les changement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’anticiper les évolutions à conduir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Reconnaître et promouvoir la person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e croire en l’Homme engagé dans « l’Oeuvre de création »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ttre de mission du chef d’établis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28440" y="157140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« 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Mission d’Enseigner, d’Eduquer et de Proposer un sens chrétien de l’Homme et de la vie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 »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 référer au statut de l’Enseignement Catholique de 1992 et 1996, à la démarche d’Assises, aux orientations diocésaines et congréganistes (charisme fondateur) et au statut du Chef d’établiss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ttre de mission du chef d’établis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Mettre en œuvre les objectifs prioritaires suivant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Connaître et reconnaître les personnes et les structures afin de comprendre et d’intégrer l’histoire, l’identité et la culture de l’établ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Encourager et soutenir l’implication des enseignants et de l’ensemble de personnels dans l’animation pédagogique et éducative de l’établ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nimer le projet pastoral en lien avec les acteurs paroissiaux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ssocier les parents à la vie de l’établissement : il est important de nommer  les projets de restructuration, de construction, d’aménagement ou de travaux  à conduire avec l’OGEC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évelopper la synergie de réseau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Privilégier le management participatif et la communication interne et extern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276720" y="1413000"/>
            <a:ext cx="2879640" cy="107928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 service en Eglise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’établissement se situe dans une Eglise diocésaine et une réalité paroissial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156360" y="2995560"/>
            <a:ext cx="2879640" cy="1079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 établissement voulu et choisi par les Parents…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où ils sont invités à s’engager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148360" y="4941720"/>
            <a:ext cx="3816360" cy="1295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e gestion au service de la Mission d’Instruction et d’Educat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Un immobilier et des équipements accueillants et fonctionnels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79280" y="4941720"/>
            <a:ext cx="4464000" cy="1295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e Communauté Educative mobilisée autour du chef d’établissement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Principe d’exemplarité éducativ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entre    le « dire » et le « faire »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e « croire » et le « vivre »…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179280" y="2924280"/>
            <a:ext cx="2880000" cy="107928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 Projet d’Enseignement et d’Educat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Inspiré et fondé par un sens chrétien de l’Homme et de la Vi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3276720" y="2708280"/>
            <a:ext cx="2735280" cy="1944720"/>
          </a:xfrm>
          <a:prstGeom prst="ellipse">
            <a:avLst/>
          </a:prstGeom>
          <a:solidFill>
            <a:srgbClr val="fed9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e5aa0"/>
                </a:solidFill>
                <a:latin typeface="Verdana"/>
              </a:rPr>
              <a:t>Une mission de service public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e5aa0"/>
                </a:solidFill>
                <a:latin typeface="Verdana"/>
              </a:rPr>
              <a:t>Une institution éducative chrétienne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6" name="Line 12"/>
          <p:cNvSpPr/>
          <p:nvPr/>
        </p:nvSpPr>
        <p:spPr>
          <a:xfrm flipV="1">
            <a:off x="464328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6012000" y="35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8" name="Line 14"/>
          <p:cNvSpPr/>
          <p:nvPr/>
        </p:nvSpPr>
        <p:spPr>
          <a:xfrm flipH="1">
            <a:off x="3059280" y="3573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9" name="Line 15"/>
          <p:cNvSpPr/>
          <p:nvPr/>
        </p:nvSpPr>
        <p:spPr>
          <a:xfrm flipH="1">
            <a:off x="3492360" y="4508640"/>
            <a:ext cx="432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0" name="Line 16"/>
          <p:cNvSpPr/>
          <p:nvPr/>
        </p:nvSpPr>
        <p:spPr>
          <a:xfrm>
            <a:off x="5364000" y="4508640"/>
            <a:ext cx="50328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1" name="Line 17"/>
          <p:cNvSpPr/>
          <p:nvPr/>
        </p:nvSpPr>
        <p:spPr>
          <a:xfrm>
            <a:off x="4643280" y="5589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971640" y="4005360"/>
            <a:ext cx="50472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3" name="Line 19"/>
          <p:cNvSpPr/>
          <p:nvPr/>
        </p:nvSpPr>
        <p:spPr>
          <a:xfrm flipH="1">
            <a:off x="7812000" y="4076640"/>
            <a:ext cx="432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4" name="Line 20"/>
          <p:cNvSpPr/>
          <p:nvPr/>
        </p:nvSpPr>
        <p:spPr>
          <a:xfrm flipV="1">
            <a:off x="900000" y="2205000"/>
            <a:ext cx="2376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6156360" y="2205000"/>
            <a:ext cx="2160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s 5 clés d’un établis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7090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éférentiel de gouvernance : un outil au service du bon fonctionnement du trépied institutionnel (tutelle, chef d’établissement et OGEC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8:49:49Z</dcterms:created>
  <dc:creator>jmlelievre</dc:creator>
  <dc:description/>
  <dc:language>en-US</dc:language>
  <cp:lastModifiedBy>aregnault</cp:lastModifiedBy>
  <dcterms:modified xsi:type="dcterms:W3CDTF">2009-11-18T14:53:38Z</dcterms:modified>
  <cp:revision>55</cp:revision>
  <dc:subject/>
  <dc:title>Journée des permanents des URO/UDOGEC</dc:title>
</cp:coreProperties>
</file>