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62945-43F5-4507-93DE-DBE6A5D2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724E7-F7F5-4F36-B279-E6602436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196A72-777B-4223-AE21-4B28397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548A3-4BC4-4C14-B7C0-E91E4DE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7E4B0-6D47-44C9-B74F-2B576B22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3409E-D00B-40CD-8BF2-1539BCBD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54F4A-9822-4D4D-B6C4-FDD3010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E2FDB-7A25-4AA7-BFE0-FDDD4FB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3C2B2-20AF-4045-81BB-326D6FE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A27B6-3D43-46E2-9678-6FB19BAF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5A68E-6B41-4E73-9660-CEF8603E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123A7-8E5D-43D7-ABC6-9ADD7715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06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-08-05 prérentrée des CE © DDEC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A0E7-3D93-4CF8-8AE1-3649322D4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entation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sentation des différents ax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éférentiel de gouvernance des OGE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926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1 : 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finit sa mission et ses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 rapport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publie son rapport d’ori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daction du rapport d’orient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ien avec les orientations du projet d’établissement et en conformité avec les orientations du CODI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écrit son règlement intérieur et l’ado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xer un calendrier des réun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r le principe de non rémunération des  membres de l’OGEC (évoquer le remboursement des frai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2 : 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312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crit sa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personnes et leur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organes (AG, CA, bureau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es délégations de responsabilités sont formalisé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duction des délibérations et procès-verbaux du CA donnant les délégations 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Président d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Chef d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3 : Gestion des 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ux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salariés, en lien avec le chef d’établissement, dans le cadre d’une politique sociale ouverte au dialogue et respectueuse des personn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salari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établit le contrat de travail du chef d’établissement après nomination de celui-ci par la tut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hef d’établissement reçoit délégation écrite pour la gestion du personnel ; le CA de l’OGEC s’assure qu’il en est rendu compte régulièrement, notamment sur les points suivants : liste des postes, procédure de recrutement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s’assure que les recrutements proposés par le chef d’établissement sont effectués dans la limite des postes inscrits au budg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cosigne avec le chef d’établissement les contrats de travai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veille à l’application des conventions collectives et statuts et à la mise en place de l’EAA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él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09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sign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que élu signe une convention d’engagements récipro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établit un parcours d’intégration et d’accompagnement des nouveaux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met en œuvre les moyens nécessaires à la formation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 service d’un projet d’é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4 : 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0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tre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stion prévisionn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mptes annu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alyse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995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du chef d’établissement 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er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 et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mettre en œuvre un plan pluriannuel d’investissement, un budget annuel de fonctionnement et un budget annuel d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contrôler l’exéc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type FNOGEC, INDICES PREVISIONN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qui intègrent un module prévisionne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libérations: arrêté en CA avant le 31/08, approbation en AG avant le 28/0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cuments intermédiaires de contrôle de l’exécution des budge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situation au 28/02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7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glementation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comptable de l’enseignement catholiqu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respecter un planning interne et statutaire préc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lôturer les comptes de l’exercice : contrôler, inventorier, révis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image fidèl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 et approuver le compte de fonctionnement, le bilan et l’annex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omptes agrég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21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entre de gestion EC ou l’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A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AG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de synthèse, déclarations TPG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30/11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ning écrit de clôture, d’arrêté et d’approbation des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OGEC, mis à jour et à disposition des responsabl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dans les délais fix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apport annuel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menter la base économique Enseignement cathol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udier les tableaux de bord INDICES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r les indicateu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eur économique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G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oire INDICES, et autres outils d’analyse financière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utils de contrôle budgétair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gestion établi par l’observateur économique EC ou l’expert-comptable dans les délais fix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ôle du respect des différents planning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3964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786280" y="1214280"/>
            <a:ext cx="2880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OJET D’EDUCATION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43720" y="5286240"/>
            <a:ext cx="295272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ISSIONS et OBJECTIF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OGEC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nctionnement Organis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85840" y="5286240"/>
            <a:ext cx="273528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ETTRE de MISS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u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85840" y="1214280"/>
            <a:ext cx="3024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ORIENTATION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a Tutelle congréganiste ou diocésai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286000" y="2714760"/>
            <a:ext cx="4248000" cy="201600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nseigner</a:t>
            </a:r>
            <a:r>
              <a:rPr b="0" i="1" lang="en-US" sz="900" spc="-1" strike="noStrike">
                <a:solidFill>
                  <a:srgbClr val="1e5aa0"/>
                </a:solidFill>
                <a:latin typeface="Verdana"/>
              </a:rPr>
              <a:t>                          </a:t>
            </a: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duqu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Propose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84360" y="6237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3" name="Line 38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4" name="Line 39"/>
          <p:cNvSpPr/>
          <p:nvPr/>
        </p:nvSpPr>
        <p:spPr>
          <a:xfrm flipV="1">
            <a:off x="4788000" y="33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5" name="Line 40"/>
          <p:cNvSpPr/>
          <p:nvPr/>
        </p:nvSpPr>
        <p:spPr>
          <a:xfrm flipH="1" flipV="1">
            <a:off x="3492000" y="33577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5999040" y="25002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7" name="Line 42"/>
          <p:cNvSpPr/>
          <p:nvPr/>
        </p:nvSpPr>
        <p:spPr>
          <a:xfrm flipH="1">
            <a:off x="6286680" y="25002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5999040" y="27162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607212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6359400" y="44290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072120" y="46450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235908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3" name="Line 48"/>
          <p:cNvSpPr/>
          <p:nvPr/>
        </p:nvSpPr>
        <p:spPr>
          <a:xfrm flipH="1">
            <a:off x="2071800" y="442908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071800" y="4645080"/>
            <a:ext cx="57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5" name="Line 50"/>
          <p:cNvSpPr/>
          <p:nvPr/>
        </p:nvSpPr>
        <p:spPr>
          <a:xfrm flipV="1">
            <a:off x="2859120" y="26445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6" name="Line 51"/>
          <p:cNvSpPr/>
          <p:nvPr/>
        </p:nvSpPr>
        <p:spPr>
          <a:xfrm flipH="1" flipV="1">
            <a:off x="2643120" y="235692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2643120" y="235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1332000" y="2276640"/>
            <a:ext cx="25200" cy="29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7429680" y="228600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3348000" y="1700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3071880" y="58579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ègles législatives liées à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mp légal d’investigation du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ttre en place des procédures de contrôle intern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hats, investissements, familles, paie, trésoreri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, évaluer et mettre à jour ces procédures en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8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illes types de procédur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guides FNOGEC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ise à jour du manuel de procédur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tion permanent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5 : 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090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établit un rapport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respecte ses obligations déclaratives dans les délais imparti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demandes, remarques et réclamations relatives à l’activité OGEC, sont prises en com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ssement du rapport de gestion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174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Rapport moral de la vie associative, rapport financier, rapport d’orientation de l’associati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35172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 et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me type de rapport de gestion : DSEL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y ajouter en préambule, propre à chaque OGEC, le rapport moral de la vie associative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é du rapport écrit par le CA et approbation par l’AG, dans le respect du calendrier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(dans les six mois de la clôture de l’exerci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172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ssement de 4 listes de documen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(A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éclarations GS CFRR et GS CFRA (TP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+ rapport CAC ( JO 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sectoriels (Tiers financeur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tableau des obligations financière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 la présentation des documents et des déla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nuel des procédures entériné par le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registrer les demandes, remarques, réclamations…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 les trai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ensemble des membres du personnel de l’établissement et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 l’associ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Un Projet d’Education porteur d’Espérance humaine et chrétie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Vous devez toujours être prêts à vous expliquer devant tous ceux qui vous demandent de rendre compte d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’Espérance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i est en vou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(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Verdana"/>
              </a:rPr>
              <a:t>èr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lettre de Pierre 3, 15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ches individuelles de réclamation ou de non-conformité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lassées par grands circuits de procédures : familles, achats, social, gestion financière, courrier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istre des réclamations ou des  non conformités </a:t>
            </a:r>
            <a:br>
              <a:rPr sz="18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à disposition du CA OGEC et des chefs d’établissement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délais de traitement et de répons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 de la synthèse des réclamations et des non conformités dans le calendrier fixé initial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6 : Responsabilité sociétale 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veloppement du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e cadre de l’élaboration de son rapport d’orientation et de l’exécution des plans et budgets, le CA de l’OGEC veille, avec le chef d’établissement, au respect de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s’assure que l’établissement est ouvert à to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appartient à des rése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gard particulier sur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économies d’énergie et de consommables (baisse de la consommation de gaz, eau, électricité, baisse de l’impression papier…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olitique de transports et l’utilisation de produits ou services qui ne nuisent pas à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ablissement ouvert à t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s’assurent de la conformité réglementaire et de l’accessibilité des loc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dispose d’un plan à jour de l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veillent à l’application des règles d’hygiène, de sécurité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’élaboration du budget avec le chef d’établissement, le CA de l’OGEC s’assure de l’égalité d’accès et de traitement entre les familles, dans le cadre des préconisations de l’Enseignement catholiqu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artenance à des résea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, en lien avec le chef d’établ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eille à l’optimisation des coûts, met en place une mise en commun de moyens, une mutualisation des acha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ée des réseaux permettant de définir des synergies et de bâtir des projets commu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ticipe à des fonds de solidari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vorise la convivial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st représenté aux structures institutionnelles et aux temps forts de ces structures afin de développer un sentiment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évelopper une culture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ffirmer et de vivre l’Identité et la Mission de l’Enseignement Catholique au sein de chaque communauté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ser l’innovation et l’expérim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valoriser l’audace pédagogique et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mpulser et accompagner les changemen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nticiper les évolutions à conduir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connaître et promouvoir la perso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croire en l’Homme engagé dans « l’Oeuvre de création 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440" y="15714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d’Enseigner, d’Eduquer et de Proposer un sens chrétien de l’Homme et de la vi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référer au statut de l’Enseignement Catholique de 1992 et 1996, à la démarche d’Assises, aux orientations diocésaines et congréganistes (charisme fondateur) et au statut du Chef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ettre en œuvre les objectifs prioritaires suiva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naître et reconnaître les personnes et les structures afin de comprendre et d’intégrer l’histoire, l’identité et la cultur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Encourager et soutenir l’implication des enseignants et de l’ensemble de personnels dans l’animation pédagogique et éducativ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imer le projet pastoral en lien avec les acteurs paroissiau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ssocier les parents à la vie de l’établissement : il est important de nommer  les projets de restructuration, de construction, d’aménagement ou de travaux  à conduire avec l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velopper la synergie de résea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ivilégier le management participatif et la communication interne et ex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276720" y="1413000"/>
            <a:ext cx="287964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service en Eglis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’établissement se situe dans une Eglise diocésaine et une réalité paroissial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56360" y="2995560"/>
            <a:ext cx="287964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établissement voulu et choisi par les Parents…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ù ils sont invités à s’engag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148360" y="4941720"/>
            <a:ext cx="381636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gestion au service de la Mission d’Instruction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 immobilier et des équipements accueillants et fonctionnels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4941720"/>
            <a:ext cx="446400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Communauté Educative mobilisée autour du 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Principe d’exemplarité éducativ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    le « dire » et le « faire »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e « croire » et le « vivre »…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79280" y="2924280"/>
            <a:ext cx="288000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Projet d’Enseignement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spiré et fondé pa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3276720" y="2708280"/>
            <a:ext cx="2735280" cy="194472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mission de service public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institution éducative chrétien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4643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01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59280" y="3573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3492360" y="450864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5364000" y="450864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64328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971640" y="400536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 flipH="1">
            <a:off x="7812000" y="40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900000" y="2205000"/>
            <a:ext cx="237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156360" y="2205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clés d’un 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090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éférentiel de gouvernance : un outil au service du bon fonctionnement du trépied institutionnel (tutelle, chef d’établissement et OGEC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53:38Z</dcterms:modified>
  <cp:revision>55</cp:revision>
  <dc:subject/>
  <dc:title>Journée des permanents des URO/UDOGEC</dc:title>
</cp:coreProperties>
</file>